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E8F6-F226-4153-8FAF-35DF6A0D5E4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279360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1C2381-5715-4C3C-A726-5F5560DAC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Img"/>
          </p:nvPr>
        </p:nvSpPr>
        <p:spPr>
          <a:xfrm>
            <a:off x="1149480" y="693360"/>
            <a:ext cx="4559040" cy="341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FB87-7735-4AD6-8EF1-0ABA692F38A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F677-0157-4F90-B339-9DAA397B312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5736-6004-45AA-B3FD-D0CC94B2537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400F-BEA5-4356-B3B9-0CAEC4F08D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3D6F-1C96-4BB8-9577-9B3C7024F57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44C4-FF1B-4B4C-9BD4-B1B4869C9CC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5B06-5045-4AF0-A3DC-DB84A624D7D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EAF2-523C-490B-A968-33080853DA3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4A46-0B27-41B5-BD66-550F3FBC53F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03E3-8631-4DC1-9323-87E054A8DA2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F673-0CD0-463D-B94A-4D2FF6CA57C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A0D6-5531-4CFB-AD64-59F4D7DDC0D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BA05-46AA-44C4-ADEB-98DA389870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D69F-D2A1-42EE-815D-58BA1933A8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9BDB-91AA-47D3-AA35-7F228E39F02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AFDC-8CA5-4A5C-B065-C489739AF7D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4125-7BC6-45F4-B237-A7CF9CF4721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DB03-CD31-4092-910F-436388D760B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1CA9-68C0-463A-AC14-026BF96D514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D7D8-FEE8-4FD3-A921-46FE63C946A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6D01-B67D-48E9-ABA5-FCE22264F61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3CF4-8581-4C3E-9ECC-7B550563DCE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3F19-F26A-4686-8DE5-A74D1A99A08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9C0A-248A-4BE8-8C16-7F7A66BB637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C32E-0A4A-43DC-B3C0-1A51762111A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CEFE-3CE9-4ECF-BECC-BC6D543C31E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CC01-F67C-47D1-883E-A49D4419E9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6CA1-D56B-4D6F-9711-1FCF7945961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CD05-DFC9-442B-AB6B-4EC274DFF22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11FF-2D33-4BA9-ADE9-9D88C7963BE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0BC1-E444-4636-BF99-47F92CC6198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0429-F811-4206-A61B-4A9B65E50C9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2697-9A7E-4095-8FC7-7B9DB2D4E8A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87E7-DB3A-4789-AD81-68E04E918EE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378A-A3C2-4FCC-B520-EE6A345B37A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980D-938B-4260-9BD8-F47DDB0CA5B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2DDE-2594-4058-971D-20EEB442683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41B9-FF3B-4B66-85B5-70FAC44C3B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9F71-76E8-4242-A10E-5EB56D16FB7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01E1-DD91-40C6-8A8E-1717F2D9E0C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0E8F-3460-47FB-96D1-A40DE990D1E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FCFC-C4C7-4ED8-8B8C-1D6EC53E7D4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D910-F059-4609-AD18-221A45E64B8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A66F-9053-4826-B8CC-6A97698E438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8A2B-7C36-44A4-B342-A50C216A963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83FF-4508-4AF6-B26F-460A95331AF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1909-AE5C-4D82-A8E5-86DA74980F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5FC0-73E5-4354-8678-8B2D6F97F7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644A-1A47-44FA-976A-1C7D1EE0AA0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80D1-7335-4F65-A3F7-17DA5DB24CF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E7D5-155E-464E-9CFE-7779CA58B3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21A0-B5DA-4961-8138-3393F215C11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4A01-55B4-471C-A567-9CFECC85A2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6B06-0DE2-4C58-B6DD-BB6804BE68E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ADAD-010D-4C1E-8E28-74945B298B4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7FBC-409B-481E-A0AC-6A580E1B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39585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D78E-A206-411A-B388-6A10561F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284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166-A4D4-4CEE-9D29-8A2C03BC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856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396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856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396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31FD-C5DD-4C71-8A95-DDDDF017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EE3-CAFC-43FE-A499-3A93FC01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BAD5-E4E8-4DAB-97EA-CAFB2A21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235C-7332-4684-AC62-7C65B9A8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A56-2B0D-4237-B36C-8E408399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040" y="680760"/>
            <a:ext cx="716292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27E5-D7F9-47BE-9C5B-D2AEF97B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880F-5ACF-479F-BCA5-938CBFE1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284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163-1B82-4B3D-B103-62379E6D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9585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0590-2734-49E9-94A2-C452B3A5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f"/>
            </a:gs>
            <a:gs pos="100000">
              <a:srgbClr val="0027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7282-9B19-4C24-8ACB-20DFA7CD8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158760" y="139680"/>
            <a:ext cx="8826480" cy="6578640"/>
            <a:chOff x="158760" y="139680"/>
            <a:chExt cx="8826480" cy="6578640"/>
          </a:xfrm>
        </p:grpSpPr>
        <p:sp>
          <p:nvSpPr>
            <p:cNvPr id="4" name="Rectangle 5"/>
            <p:cNvSpPr/>
            <p:nvPr/>
          </p:nvSpPr>
          <p:spPr>
            <a:xfrm>
              <a:off x="158760" y="139680"/>
              <a:ext cx="8826480" cy="6578640"/>
            </a:xfrm>
            <a:prstGeom prst="rect">
              <a:avLst/>
            </a:prstGeom>
            <a:gradFill rotWithShape="0">
              <a:gsLst>
                <a:gs pos="0">
                  <a:srgbClr val="3352b2"/>
                </a:gs>
                <a:gs pos="50000">
                  <a:srgbClr val="00279f"/>
                </a:gs>
                <a:gs pos="100000">
                  <a:srgbClr val="3352b2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336600" y="291960"/>
              <a:ext cx="8470800" cy="62740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c67bc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379440" y="347760"/>
              <a:ext cx="8385120" cy="6164280"/>
            </a:xfrm>
            <a:prstGeom prst="rect">
              <a:avLst/>
            </a:prstGeom>
            <a:gradFill rotWithShape="0">
              <a:gsLst>
                <a:gs pos="0">
                  <a:srgbClr val="4c67bc"/>
                </a:gs>
                <a:gs pos="50000">
                  <a:srgbClr val="00279f"/>
                </a:gs>
                <a:gs pos="100000">
                  <a:srgbClr val="4c67bc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14440" y="520560"/>
              <a:ext cx="8115120" cy="5816880"/>
            </a:xfrm>
            <a:prstGeom prst="rect">
              <a:avLst/>
            </a:prstGeom>
            <a:gradFill rotWithShape="0">
              <a:gsLst>
                <a:gs pos="0">
                  <a:srgbClr val="000c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50956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action Rat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Fast Does the Reaction G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ings that Affect Rat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can only collide at the surf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r particles bigger surface ar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r particles faster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st possible is molecules or 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olving speeds up re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two solids to react with each other is s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ings that Affect Rat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7880" y="1371600"/>
            <a:ext cx="82663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atalyst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ubstances that speed up a reaction without being used up.(enzym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s up reaction by giving the reaction a new pa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w path has a lower activation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molecules have this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action goes fa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hibitor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substance that blocks a cataly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7560" y="509760"/>
            <a:ext cx="7607160" cy="5397480"/>
          </a:xfrm>
          <a:prstGeom prst="rect">
            <a:avLst/>
          </a:prstGeom>
          <a:solidFill>
            <a:srgbClr val="b3b9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 rot="16200000">
            <a:off x="75600" y="388620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Line 4"/>
          <p:cNvSpPr/>
          <p:nvPr/>
        </p:nvSpPr>
        <p:spPr>
          <a:xfrm flipV="1">
            <a:off x="838080" y="1828440"/>
            <a:ext cx="0" cy="1523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886120" y="5853240"/>
            <a:ext cx="449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coordinat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Freeform 6"/>
          <p:cNvSpPr/>
          <p:nvPr/>
        </p:nvSpPr>
        <p:spPr>
          <a:xfrm>
            <a:off x="1373040" y="1692360"/>
            <a:ext cx="7164360" cy="3519360"/>
          </a:xfrm>
          <a:prstGeom prst="pie">
            <a:avLst/>
          </a:prstGeom>
          <a:noFill/>
          <a:ln cap="rnd" w="255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2" name="Group 9"/>
          <p:cNvGrpSpPr/>
          <p:nvPr/>
        </p:nvGrpSpPr>
        <p:grpSpPr>
          <a:xfrm>
            <a:off x="4791240" y="808200"/>
            <a:ext cx="465120" cy="799920"/>
            <a:chOff x="4791240" y="808200"/>
            <a:chExt cx="465120" cy="799920"/>
          </a:xfrm>
        </p:grpSpPr>
        <p:sp>
          <p:nvSpPr>
            <p:cNvPr id="223" name="Oval 7"/>
            <p:cNvSpPr/>
            <p:nvPr/>
          </p:nvSpPr>
          <p:spPr>
            <a:xfrm>
              <a:off x="4792680" y="808200"/>
              <a:ext cx="463680" cy="463320"/>
            </a:xfrm>
            <a:prstGeom prst="ellipse">
              <a:avLst/>
            </a:prstGeom>
            <a:solidFill>
              <a:srgbClr val="e844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4" name="Oval 8"/>
            <p:cNvSpPr/>
            <p:nvPr/>
          </p:nvSpPr>
          <p:spPr>
            <a:xfrm>
              <a:off x="4791240" y="1144440"/>
              <a:ext cx="463320" cy="463680"/>
            </a:xfrm>
            <a:prstGeom prst="ellipse">
              <a:avLst/>
            </a:prstGeom>
            <a:solidFill>
              <a:srgbClr val="e844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187960" y="976320"/>
            <a:ext cx="235080" cy="447840"/>
            <a:chOff x="5187960" y="976320"/>
            <a:chExt cx="235080" cy="447840"/>
          </a:xfrm>
        </p:grpSpPr>
        <p:sp>
          <p:nvSpPr>
            <p:cNvPr id="226" name="Oval 10"/>
            <p:cNvSpPr/>
            <p:nvPr/>
          </p:nvSpPr>
          <p:spPr>
            <a:xfrm>
              <a:off x="5189400" y="976320"/>
              <a:ext cx="233640" cy="2332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5187960" y="1190520"/>
              <a:ext cx="233280" cy="2336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28" name="Rectangle 13"/>
          <p:cNvSpPr/>
          <p:nvPr/>
        </p:nvSpPr>
        <p:spPr>
          <a:xfrm>
            <a:off x="1144440" y="3859200"/>
            <a:ext cx="231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6962760" y="5208480"/>
            <a:ext cx="2168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30" name="Group 17"/>
          <p:cNvGrpSpPr/>
          <p:nvPr/>
        </p:nvGrpSpPr>
        <p:grpSpPr>
          <a:xfrm>
            <a:off x="4591080" y="961920"/>
            <a:ext cx="235080" cy="447840"/>
            <a:chOff x="4591080" y="961920"/>
            <a:chExt cx="235080" cy="447840"/>
          </a:xfrm>
        </p:grpSpPr>
        <p:sp>
          <p:nvSpPr>
            <p:cNvPr id="231" name="Oval 15"/>
            <p:cNvSpPr/>
            <p:nvPr/>
          </p:nvSpPr>
          <p:spPr>
            <a:xfrm>
              <a:off x="4592520" y="961920"/>
              <a:ext cx="233640" cy="2336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4591080" y="1176480"/>
              <a:ext cx="233280" cy="2332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33" name="Freeform 18"/>
          <p:cNvSpPr/>
          <p:nvPr/>
        </p:nvSpPr>
        <p:spPr>
          <a:xfrm>
            <a:off x="2508120" y="3083040"/>
            <a:ext cx="4469040" cy="1589040"/>
          </a:xfrm>
          <a:prstGeom prst="pie">
            <a:avLst/>
          </a:prstGeom>
          <a:noFill/>
          <a:ln cap="rnd" w="25560">
            <a:solidFill>
              <a:srgbClr val="e84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254160" y="1511280"/>
            <a:ext cx="8692920" cy="457848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35" name="Group 6"/>
          <p:cNvGrpSpPr/>
          <p:nvPr/>
        </p:nvGrpSpPr>
        <p:grpSpPr>
          <a:xfrm>
            <a:off x="819000" y="4224240"/>
            <a:ext cx="7145640" cy="1560600"/>
            <a:chOff x="819000" y="4224240"/>
            <a:chExt cx="7145640" cy="1560600"/>
          </a:xfrm>
        </p:grpSpPr>
        <p:sp>
          <p:nvSpPr>
            <p:cNvPr id="236" name="Freeform 3"/>
            <p:cNvSpPr/>
            <p:nvPr/>
          </p:nvSpPr>
          <p:spPr>
            <a:xfrm>
              <a:off x="819000" y="4224240"/>
              <a:ext cx="7145640" cy="1511280"/>
            </a:xfrm>
            <a:prstGeom prst="pi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7" name="Rectangle 4"/>
            <p:cNvSpPr/>
            <p:nvPr/>
          </p:nvSpPr>
          <p:spPr>
            <a:xfrm>
              <a:off x="865080" y="5716440"/>
              <a:ext cx="474516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5600880" y="4229280"/>
              <a:ext cx="2358720" cy="1549080"/>
            </a:xfrm>
            <a:prstGeom prst="pie">
              <a:avLst/>
            </a:pr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39" name="Rectangle 7"/>
          <p:cNvSpPr/>
          <p:nvPr/>
        </p:nvSpPr>
        <p:spPr>
          <a:xfrm>
            <a:off x="3486240" y="5181480"/>
            <a:ext cx="2114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Book Antiqua"/>
              </a:rPr>
              <a:t>Pt surfac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0" name="Group 14"/>
          <p:cNvGrpSpPr/>
          <p:nvPr/>
        </p:nvGrpSpPr>
        <p:grpSpPr>
          <a:xfrm>
            <a:off x="882720" y="1949400"/>
            <a:ext cx="996840" cy="550800"/>
            <a:chOff x="882720" y="1949400"/>
            <a:chExt cx="996840" cy="550800"/>
          </a:xfrm>
        </p:grpSpPr>
        <p:grpSp>
          <p:nvGrpSpPr>
            <p:cNvPr id="241" name="Group 10"/>
            <p:cNvGrpSpPr/>
            <p:nvPr/>
          </p:nvGrpSpPr>
          <p:grpSpPr>
            <a:xfrm>
              <a:off x="1339920" y="1949400"/>
              <a:ext cx="539640" cy="550800"/>
              <a:chOff x="1339920" y="1949400"/>
              <a:chExt cx="539640" cy="550800"/>
            </a:xfrm>
          </p:grpSpPr>
          <p:sp>
            <p:nvSpPr>
              <p:cNvPr id="242" name="Oval 8"/>
              <p:cNvSpPr/>
              <p:nvPr/>
            </p:nvSpPr>
            <p:spPr>
              <a:xfrm>
                <a:off x="1339920" y="1949400"/>
                <a:ext cx="539640" cy="520920"/>
              </a:xfrm>
              <a:prstGeom prst="ellipse">
                <a:avLst/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43" name="Rectangle 9"/>
              <p:cNvSpPr/>
              <p:nvPr/>
            </p:nvSpPr>
            <p:spPr>
              <a:xfrm>
                <a:off x="1390680" y="1981080"/>
                <a:ext cx="399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279f"/>
                    </a:solidFill>
                    <a:latin typeface="Book Antiqua"/>
                  </a:rPr>
                  <a:t>H</a:t>
                </a:r>
                <a:endParaRPr b="0" lang="en-US" sz="2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13"/>
            <p:cNvGrpSpPr/>
            <p:nvPr/>
          </p:nvGrpSpPr>
          <p:grpSpPr>
            <a:xfrm>
              <a:off x="882720" y="1949400"/>
              <a:ext cx="539640" cy="550800"/>
              <a:chOff x="882720" y="1949400"/>
              <a:chExt cx="539640" cy="550800"/>
            </a:xfrm>
          </p:grpSpPr>
          <p:sp>
            <p:nvSpPr>
              <p:cNvPr id="245" name="Oval 11"/>
              <p:cNvSpPr/>
              <p:nvPr/>
            </p:nvSpPr>
            <p:spPr>
              <a:xfrm>
                <a:off x="882720" y="1949400"/>
                <a:ext cx="539640" cy="520920"/>
              </a:xfrm>
              <a:prstGeom prst="ellipse">
                <a:avLst/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46" name="Rectangle 12"/>
              <p:cNvSpPr/>
              <p:nvPr/>
            </p:nvSpPr>
            <p:spPr>
              <a:xfrm>
                <a:off x="933480" y="1981080"/>
                <a:ext cx="399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279f"/>
                    </a:solidFill>
                    <a:latin typeface="Book Antiqua"/>
                  </a:rPr>
                  <a:t>H</a:t>
                </a:r>
                <a:endParaRPr b="0" lang="en-US" sz="2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Group 21"/>
          <p:cNvGrpSpPr/>
          <p:nvPr/>
        </p:nvGrpSpPr>
        <p:grpSpPr>
          <a:xfrm>
            <a:off x="7207200" y="2540160"/>
            <a:ext cx="996840" cy="550800"/>
            <a:chOff x="7207200" y="2540160"/>
            <a:chExt cx="996840" cy="550800"/>
          </a:xfrm>
        </p:grpSpPr>
        <p:grpSp>
          <p:nvGrpSpPr>
            <p:cNvPr id="248" name="Group 17"/>
            <p:cNvGrpSpPr/>
            <p:nvPr/>
          </p:nvGrpSpPr>
          <p:grpSpPr>
            <a:xfrm>
              <a:off x="7664400" y="2540160"/>
              <a:ext cx="539640" cy="550800"/>
              <a:chOff x="7664400" y="2540160"/>
              <a:chExt cx="539640" cy="550800"/>
            </a:xfrm>
          </p:grpSpPr>
          <p:sp>
            <p:nvSpPr>
              <p:cNvPr id="249" name="Oval 15"/>
              <p:cNvSpPr/>
              <p:nvPr/>
            </p:nvSpPr>
            <p:spPr>
              <a:xfrm>
                <a:off x="7664400" y="2540160"/>
                <a:ext cx="539640" cy="520560"/>
              </a:xfrm>
              <a:prstGeom prst="ellipse">
                <a:avLst/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50" name="Rectangle 16"/>
              <p:cNvSpPr/>
              <p:nvPr/>
            </p:nvSpPr>
            <p:spPr>
              <a:xfrm>
                <a:off x="7715160" y="2571840"/>
                <a:ext cx="400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279f"/>
                    </a:solidFill>
                    <a:latin typeface="Book Antiqua"/>
                  </a:rPr>
                  <a:t>H</a:t>
                </a:r>
                <a:endParaRPr b="0" lang="en-US" sz="2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0"/>
            <p:cNvGrpSpPr/>
            <p:nvPr/>
          </p:nvGrpSpPr>
          <p:grpSpPr>
            <a:xfrm>
              <a:off x="7207200" y="2540160"/>
              <a:ext cx="539640" cy="550800"/>
              <a:chOff x="7207200" y="2540160"/>
              <a:chExt cx="539640" cy="550800"/>
            </a:xfrm>
          </p:grpSpPr>
          <p:sp>
            <p:nvSpPr>
              <p:cNvPr id="252" name="Oval 18"/>
              <p:cNvSpPr/>
              <p:nvPr/>
            </p:nvSpPr>
            <p:spPr>
              <a:xfrm>
                <a:off x="7207200" y="2540160"/>
                <a:ext cx="539640" cy="520560"/>
              </a:xfrm>
              <a:prstGeom prst="ellipse">
                <a:avLst/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53" name="Rectangle 19"/>
              <p:cNvSpPr/>
              <p:nvPr/>
            </p:nvSpPr>
            <p:spPr>
              <a:xfrm>
                <a:off x="7257960" y="2571840"/>
                <a:ext cx="400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279f"/>
                    </a:solidFill>
                    <a:latin typeface="Book Antiqua"/>
                  </a:rPr>
                  <a:t>H</a:t>
                </a:r>
                <a:endParaRPr b="0" lang="en-US" sz="2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Group 24"/>
          <p:cNvGrpSpPr/>
          <p:nvPr/>
        </p:nvGrpSpPr>
        <p:grpSpPr>
          <a:xfrm>
            <a:off x="6559560" y="3778200"/>
            <a:ext cx="539640" cy="550800"/>
            <a:chOff x="6559560" y="3778200"/>
            <a:chExt cx="539640" cy="550800"/>
          </a:xfrm>
        </p:grpSpPr>
        <p:sp>
          <p:nvSpPr>
            <p:cNvPr id="255" name="Oval 22"/>
            <p:cNvSpPr/>
            <p:nvPr/>
          </p:nvSpPr>
          <p:spPr>
            <a:xfrm>
              <a:off x="6559560" y="377820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56" name="Rectangle 23"/>
            <p:cNvSpPr/>
            <p:nvPr/>
          </p:nvSpPr>
          <p:spPr>
            <a:xfrm>
              <a:off x="6610320" y="380988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57" name="Group 27"/>
          <p:cNvGrpSpPr/>
          <p:nvPr/>
        </p:nvGrpSpPr>
        <p:grpSpPr>
          <a:xfrm>
            <a:off x="5969160" y="3625920"/>
            <a:ext cx="539640" cy="550800"/>
            <a:chOff x="5969160" y="3625920"/>
            <a:chExt cx="539640" cy="550800"/>
          </a:xfrm>
        </p:grpSpPr>
        <p:sp>
          <p:nvSpPr>
            <p:cNvPr id="258" name="Oval 25"/>
            <p:cNvSpPr/>
            <p:nvPr/>
          </p:nvSpPr>
          <p:spPr>
            <a:xfrm>
              <a:off x="5969160" y="3625920"/>
              <a:ext cx="53964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59" name="Rectangle 26"/>
            <p:cNvSpPr/>
            <p:nvPr/>
          </p:nvSpPr>
          <p:spPr>
            <a:xfrm>
              <a:off x="6019920" y="365760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60" name="Line 28"/>
          <p:cNvSpPr/>
          <p:nvPr/>
        </p:nvSpPr>
        <p:spPr>
          <a:xfrm>
            <a:off x="6286680" y="4172040"/>
            <a:ext cx="0" cy="36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" name="Line 29"/>
          <p:cNvSpPr/>
          <p:nvPr/>
        </p:nvSpPr>
        <p:spPr>
          <a:xfrm>
            <a:off x="6819840" y="4324320"/>
            <a:ext cx="0" cy="362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Group 32"/>
          <p:cNvGrpSpPr/>
          <p:nvPr/>
        </p:nvGrpSpPr>
        <p:grpSpPr>
          <a:xfrm>
            <a:off x="1873080" y="4654440"/>
            <a:ext cx="540000" cy="551160"/>
            <a:chOff x="1873080" y="4654440"/>
            <a:chExt cx="540000" cy="551160"/>
          </a:xfrm>
        </p:grpSpPr>
        <p:sp>
          <p:nvSpPr>
            <p:cNvPr id="263" name="Oval 30"/>
            <p:cNvSpPr/>
            <p:nvPr/>
          </p:nvSpPr>
          <p:spPr>
            <a:xfrm>
              <a:off x="1873080" y="4654440"/>
              <a:ext cx="54000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64" name="Rectangle 31"/>
            <p:cNvSpPr/>
            <p:nvPr/>
          </p:nvSpPr>
          <p:spPr>
            <a:xfrm>
              <a:off x="1924200" y="468648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65" name="Group 35"/>
          <p:cNvGrpSpPr/>
          <p:nvPr/>
        </p:nvGrpSpPr>
        <p:grpSpPr>
          <a:xfrm>
            <a:off x="1187280" y="4749840"/>
            <a:ext cx="540000" cy="550800"/>
            <a:chOff x="1187280" y="4749840"/>
            <a:chExt cx="540000" cy="550800"/>
          </a:xfrm>
        </p:grpSpPr>
        <p:sp>
          <p:nvSpPr>
            <p:cNvPr id="266" name="Oval 33"/>
            <p:cNvSpPr/>
            <p:nvPr/>
          </p:nvSpPr>
          <p:spPr>
            <a:xfrm>
              <a:off x="1187280" y="474984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67" name="Rectangle 34"/>
            <p:cNvSpPr/>
            <p:nvPr/>
          </p:nvSpPr>
          <p:spPr>
            <a:xfrm>
              <a:off x="1238400" y="478152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68" name="Line 36"/>
          <p:cNvSpPr/>
          <p:nvPr/>
        </p:nvSpPr>
        <p:spPr>
          <a:xfrm>
            <a:off x="1504800" y="5295960"/>
            <a:ext cx="0" cy="36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Line 37"/>
          <p:cNvSpPr/>
          <p:nvPr/>
        </p:nvSpPr>
        <p:spPr>
          <a:xfrm>
            <a:off x="2133720" y="5200560"/>
            <a:ext cx="0" cy="362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533160" y="2376000"/>
            <a:ext cx="5143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Hydrogen bonds to surface of met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Break H-H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254160" y="1511280"/>
            <a:ext cx="8692920" cy="457848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73" name="Group 6"/>
          <p:cNvGrpSpPr/>
          <p:nvPr/>
        </p:nvGrpSpPr>
        <p:grpSpPr>
          <a:xfrm>
            <a:off x="819000" y="4224240"/>
            <a:ext cx="7145640" cy="1560600"/>
            <a:chOff x="819000" y="4224240"/>
            <a:chExt cx="7145640" cy="1560600"/>
          </a:xfrm>
        </p:grpSpPr>
        <p:sp>
          <p:nvSpPr>
            <p:cNvPr id="274" name="Freeform 3"/>
            <p:cNvSpPr/>
            <p:nvPr/>
          </p:nvSpPr>
          <p:spPr>
            <a:xfrm>
              <a:off x="819000" y="4224240"/>
              <a:ext cx="7145640" cy="1511280"/>
            </a:xfrm>
            <a:prstGeom prst="pi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75" name="Rectangle 4"/>
            <p:cNvSpPr/>
            <p:nvPr/>
          </p:nvSpPr>
          <p:spPr>
            <a:xfrm>
              <a:off x="865080" y="5716440"/>
              <a:ext cx="474516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76" name="Freeform 5"/>
            <p:cNvSpPr/>
            <p:nvPr/>
          </p:nvSpPr>
          <p:spPr>
            <a:xfrm>
              <a:off x="5600880" y="4229280"/>
              <a:ext cx="2358720" cy="1549080"/>
            </a:xfrm>
            <a:prstGeom prst="pie">
              <a:avLst/>
            </a:pr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77" name="Rectangle 7"/>
          <p:cNvSpPr/>
          <p:nvPr/>
        </p:nvSpPr>
        <p:spPr>
          <a:xfrm>
            <a:off x="3486240" y="5181480"/>
            <a:ext cx="2114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Book Antiqua"/>
              </a:rPr>
              <a:t>Pt surfac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78" name="Group 10"/>
          <p:cNvGrpSpPr/>
          <p:nvPr/>
        </p:nvGrpSpPr>
        <p:grpSpPr>
          <a:xfrm>
            <a:off x="6559560" y="3778200"/>
            <a:ext cx="539640" cy="550800"/>
            <a:chOff x="6559560" y="3778200"/>
            <a:chExt cx="539640" cy="550800"/>
          </a:xfrm>
        </p:grpSpPr>
        <p:sp>
          <p:nvSpPr>
            <p:cNvPr id="279" name="Oval 8"/>
            <p:cNvSpPr/>
            <p:nvPr/>
          </p:nvSpPr>
          <p:spPr>
            <a:xfrm>
              <a:off x="6559560" y="377820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80" name="Rectangle 9"/>
            <p:cNvSpPr/>
            <p:nvPr/>
          </p:nvSpPr>
          <p:spPr>
            <a:xfrm>
              <a:off x="6610320" y="380988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81" name="Group 13"/>
          <p:cNvGrpSpPr/>
          <p:nvPr/>
        </p:nvGrpSpPr>
        <p:grpSpPr>
          <a:xfrm>
            <a:off x="5969160" y="3625920"/>
            <a:ext cx="539640" cy="550800"/>
            <a:chOff x="5969160" y="3625920"/>
            <a:chExt cx="539640" cy="550800"/>
          </a:xfrm>
        </p:grpSpPr>
        <p:sp>
          <p:nvSpPr>
            <p:cNvPr id="282" name="Oval 11"/>
            <p:cNvSpPr/>
            <p:nvPr/>
          </p:nvSpPr>
          <p:spPr>
            <a:xfrm>
              <a:off x="5969160" y="3625920"/>
              <a:ext cx="53964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83" name="Rectangle 12"/>
            <p:cNvSpPr/>
            <p:nvPr/>
          </p:nvSpPr>
          <p:spPr>
            <a:xfrm>
              <a:off x="6019920" y="365760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84" name="Line 14"/>
          <p:cNvSpPr/>
          <p:nvPr/>
        </p:nvSpPr>
        <p:spPr>
          <a:xfrm>
            <a:off x="6286680" y="4172040"/>
            <a:ext cx="0" cy="36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" name="Line 15"/>
          <p:cNvSpPr/>
          <p:nvPr/>
        </p:nvSpPr>
        <p:spPr>
          <a:xfrm>
            <a:off x="6819840" y="4324320"/>
            <a:ext cx="0" cy="362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86" name="Group 18"/>
          <p:cNvGrpSpPr/>
          <p:nvPr/>
        </p:nvGrpSpPr>
        <p:grpSpPr>
          <a:xfrm>
            <a:off x="1873080" y="4654440"/>
            <a:ext cx="540000" cy="551160"/>
            <a:chOff x="1873080" y="4654440"/>
            <a:chExt cx="540000" cy="551160"/>
          </a:xfrm>
        </p:grpSpPr>
        <p:sp>
          <p:nvSpPr>
            <p:cNvPr id="287" name="Oval 16"/>
            <p:cNvSpPr/>
            <p:nvPr/>
          </p:nvSpPr>
          <p:spPr>
            <a:xfrm>
              <a:off x="1873080" y="4654440"/>
              <a:ext cx="54000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88" name="Rectangle 17"/>
            <p:cNvSpPr/>
            <p:nvPr/>
          </p:nvSpPr>
          <p:spPr>
            <a:xfrm>
              <a:off x="1924200" y="468648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289" name="Group 21"/>
          <p:cNvGrpSpPr/>
          <p:nvPr/>
        </p:nvGrpSpPr>
        <p:grpSpPr>
          <a:xfrm>
            <a:off x="1187280" y="4749840"/>
            <a:ext cx="540000" cy="550800"/>
            <a:chOff x="1187280" y="4749840"/>
            <a:chExt cx="540000" cy="550800"/>
          </a:xfrm>
        </p:grpSpPr>
        <p:sp>
          <p:nvSpPr>
            <p:cNvPr id="290" name="Oval 19"/>
            <p:cNvSpPr/>
            <p:nvPr/>
          </p:nvSpPr>
          <p:spPr>
            <a:xfrm>
              <a:off x="1187280" y="474984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91" name="Rectangle 20"/>
            <p:cNvSpPr/>
            <p:nvPr/>
          </p:nvSpPr>
          <p:spPr>
            <a:xfrm>
              <a:off x="1238400" y="478152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92" name="Line 22"/>
          <p:cNvSpPr/>
          <p:nvPr/>
        </p:nvSpPr>
        <p:spPr>
          <a:xfrm>
            <a:off x="1504800" y="5295960"/>
            <a:ext cx="0" cy="36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" name="Line 23"/>
          <p:cNvSpPr/>
          <p:nvPr/>
        </p:nvSpPr>
        <p:spPr>
          <a:xfrm>
            <a:off x="2133720" y="5200560"/>
            <a:ext cx="0" cy="362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95" name="Group 27"/>
          <p:cNvGrpSpPr/>
          <p:nvPr/>
        </p:nvGrpSpPr>
        <p:grpSpPr>
          <a:xfrm>
            <a:off x="3111480" y="2787480"/>
            <a:ext cx="863640" cy="806760"/>
            <a:chOff x="3111480" y="2787480"/>
            <a:chExt cx="863640" cy="806760"/>
          </a:xfrm>
        </p:grpSpPr>
        <p:sp>
          <p:nvSpPr>
            <p:cNvPr id="296" name="Oval 25"/>
            <p:cNvSpPr/>
            <p:nvPr/>
          </p:nvSpPr>
          <p:spPr>
            <a:xfrm>
              <a:off x="3111480" y="2787480"/>
              <a:ext cx="863640" cy="806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97" name="Rectangle 26"/>
            <p:cNvSpPr/>
            <p:nvPr/>
          </p:nvSpPr>
          <p:spPr>
            <a:xfrm>
              <a:off x="3295800" y="2895480"/>
              <a:ext cx="6094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298" name="Line 28"/>
          <p:cNvSpPr/>
          <p:nvPr/>
        </p:nvSpPr>
        <p:spPr>
          <a:xfrm>
            <a:off x="2476440" y="304812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9" name="Line 29"/>
          <p:cNvSpPr/>
          <p:nvPr/>
        </p:nvSpPr>
        <p:spPr>
          <a:xfrm>
            <a:off x="1390680" y="323856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Line 30"/>
          <p:cNvSpPr/>
          <p:nvPr/>
        </p:nvSpPr>
        <p:spPr>
          <a:xfrm>
            <a:off x="2514600" y="327672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Line 31"/>
          <p:cNvSpPr/>
          <p:nvPr/>
        </p:nvSpPr>
        <p:spPr>
          <a:xfrm>
            <a:off x="3733920" y="3200400"/>
            <a:ext cx="761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02" name="Group 34"/>
          <p:cNvGrpSpPr/>
          <p:nvPr/>
        </p:nvGrpSpPr>
        <p:grpSpPr>
          <a:xfrm>
            <a:off x="4197240" y="2921040"/>
            <a:ext cx="540000" cy="550800"/>
            <a:chOff x="4197240" y="2921040"/>
            <a:chExt cx="540000" cy="550800"/>
          </a:xfrm>
        </p:grpSpPr>
        <p:sp>
          <p:nvSpPr>
            <p:cNvPr id="303" name="Oval 32"/>
            <p:cNvSpPr/>
            <p:nvPr/>
          </p:nvSpPr>
          <p:spPr>
            <a:xfrm>
              <a:off x="4197240" y="2921040"/>
              <a:ext cx="54000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4" name="Rectangle 33"/>
            <p:cNvSpPr/>
            <p:nvPr/>
          </p:nvSpPr>
          <p:spPr>
            <a:xfrm>
              <a:off x="4248000" y="2952720"/>
              <a:ext cx="400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05" name="Group 37"/>
          <p:cNvGrpSpPr/>
          <p:nvPr/>
        </p:nvGrpSpPr>
        <p:grpSpPr>
          <a:xfrm>
            <a:off x="1035000" y="2940120"/>
            <a:ext cx="539640" cy="550800"/>
            <a:chOff x="1035000" y="2940120"/>
            <a:chExt cx="539640" cy="550800"/>
          </a:xfrm>
        </p:grpSpPr>
        <p:sp>
          <p:nvSpPr>
            <p:cNvPr id="306" name="Oval 35"/>
            <p:cNvSpPr/>
            <p:nvPr/>
          </p:nvSpPr>
          <p:spPr>
            <a:xfrm>
              <a:off x="1035000" y="294012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07" name="Rectangle 36"/>
            <p:cNvSpPr/>
            <p:nvPr/>
          </p:nvSpPr>
          <p:spPr>
            <a:xfrm>
              <a:off x="1085760" y="2971800"/>
              <a:ext cx="400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08" name="Group 40"/>
          <p:cNvGrpSpPr/>
          <p:nvPr/>
        </p:nvGrpSpPr>
        <p:grpSpPr>
          <a:xfrm>
            <a:off x="1841400" y="2813040"/>
            <a:ext cx="851040" cy="793800"/>
            <a:chOff x="1841400" y="2813040"/>
            <a:chExt cx="851040" cy="793800"/>
          </a:xfrm>
        </p:grpSpPr>
        <p:sp>
          <p:nvSpPr>
            <p:cNvPr id="309" name="Oval 38"/>
            <p:cNvSpPr/>
            <p:nvPr/>
          </p:nvSpPr>
          <p:spPr>
            <a:xfrm>
              <a:off x="1841400" y="2813040"/>
              <a:ext cx="851040" cy="793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10" name="Rectangle 39"/>
            <p:cNvSpPr/>
            <p:nvPr/>
          </p:nvSpPr>
          <p:spPr>
            <a:xfrm>
              <a:off x="2019240" y="2914560"/>
              <a:ext cx="609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11" name="Line 41"/>
          <p:cNvSpPr/>
          <p:nvPr/>
        </p:nvSpPr>
        <p:spPr>
          <a:xfrm flipV="1">
            <a:off x="2228760" y="243828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2" name="Line 42"/>
          <p:cNvSpPr/>
          <p:nvPr/>
        </p:nvSpPr>
        <p:spPr>
          <a:xfrm flipV="1">
            <a:off x="3524400" y="247644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3" name="Group 45"/>
          <p:cNvGrpSpPr/>
          <p:nvPr/>
        </p:nvGrpSpPr>
        <p:grpSpPr>
          <a:xfrm>
            <a:off x="3244680" y="2044800"/>
            <a:ext cx="540000" cy="550800"/>
            <a:chOff x="3244680" y="2044800"/>
            <a:chExt cx="540000" cy="550800"/>
          </a:xfrm>
        </p:grpSpPr>
        <p:sp>
          <p:nvSpPr>
            <p:cNvPr id="314" name="Oval 43"/>
            <p:cNvSpPr/>
            <p:nvPr/>
          </p:nvSpPr>
          <p:spPr>
            <a:xfrm>
              <a:off x="3244680" y="2044800"/>
              <a:ext cx="54000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15" name="Rectangle 44"/>
            <p:cNvSpPr/>
            <p:nvPr/>
          </p:nvSpPr>
          <p:spPr>
            <a:xfrm>
              <a:off x="3295800" y="207648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16" name="Group 48"/>
          <p:cNvGrpSpPr/>
          <p:nvPr/>
        </p:nvGrpSpPr>
        <p:grpSpPr>
          <a:xfrm>
            <a:off x="1968480" y="2044800"/>
            <a:ext cx="539640" cy="550800"/>
            <a:chOff x="1968480" y="2044800"/>
            <a:chExt cx="539640" cy="550800"/>
          </a:xfrm>
        </p:grpSpPr>
        <p:sp>
          <p:nvSpPr>
            <p:cNvPr id="317" name="Oval 46"/>
            <p:cNvSpPr/>
            <p:nvPr/>
          </p:nvSpPr>
          <p:spPr>
            <a:xfrm>
              <a:off x="1968480" y="204480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18" name="Rectangle 47"/>
            <p:cNvSpPr/>
            <p:nvPr/>
          </p:nvSpPr>
          <p:spPr>
            <a:xfrm>
              <a:off x="2019240" y="207648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254160" y="1511280"/>
            <a:ext cx="8692920" cy="457848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819000" y="4224240"/>
            <a:ext cx="7145640" cy="1560600"/>
            <a:chOff x="819000" y="4224240"/>
            <a:chExt cx="7145640" cy="1560600"/>
          </a:xfrm>
        </p:grpSpPr>
        <p:sp>
          <p:nvSpPr>
            <p:cNvPr id="321" name="Freeform 3"/>
            <p:cNvSpPr/>
            <p:nvPr/>
          </p:nvSpPr>
          <p:spPr>
            <a:xfrm>
              <a:off x="819000" y="4224240"/>
              <a:ext cx="7145640" cy="1511280"/>
            </a:xfrm>
            <a:prstGeom prst="pi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22" name="Rectangle 4"/>
            <p:cNvSpPr/>
            <p:nvPr/>
          </p:nvSpPr>
          <p:spPr>
            <a:xfrm>
              <a:off x="865080" y="5716440"/>
              <a:ext cx="474516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23" name="Freeform 5"/>
            <p:cNvSpPr/>
            <p:nvPr/>
          </p:nvSpPr>
          <p:spPr>
            <a:xfrm>
              <a:off x="5600880" y="4229280"/>
              <a:ext cx="2358720" cy="1549080"/>
            </a:xfrm>
            <a:prstGeom prst="pie">
              <a:avLst/>
            </a:pr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24" name="Rectangle 7"/>
          <p:cNvSpPr/>
          <p:nvPr/>
        </p:nvSpPr>
        <p:spPr>
          <a:xfrm>
            <a:off x="3486240" y="5181480"/>
            <a:ext cx="2114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Book Antiqua"/>
              </a:rPr>
              <a:t>Pt surfac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5" name="Group 10"/>
          <p:cNvGrpSpPr/>
          <p:nvPr/>
        </p:nvGrpSpPr>
        <p:grpSpPr>
          <a:xfrm>
            <a:off x="6559560" y="3778200"/>
            <a:ext cx="539640" cy="550800"/>
            <a:chOff x="6559560" y="3778200"/>
            <a:chExt cx="539640" cy="550800"/>
          </a:xfrm>
        </p:grpSpPr>
        <p:sp>
          <p:nvSpPr>
            <p:cNvPr id="326" name="Oval 8"/>
            <p:cNvSpPr/>
            <p:nvPr/>
          </p:nvSpPr>
          <p:spPr>
            <a:xfrm>
              <a:off x="6559560" y="377820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6610320" y="380988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28" name="Group 13"/>
          <p:cNvGrpSpPr/>
          <p:nvPr/>
        </p:nvGrpSpPr>
        <p:grpSpPr>
          <a:xfrm>
            <a:off x="5969160" y="3625920"/>
            <a:ext cx="539640" cy="550800"/>
            <a:chOff x="5969160" y="3625920"/>
            <a:chExt cx="539640" cy="550800"/>
          </a:xfrm>
        </p:grpSpPr>
        <p:sp>
          <p:nvSpPr>
            <p:cNvPr id="329" name="Oval 11"/>
            <p:cNvSpPr/>
            <p:nvPr/>
          </p:nvSpPr>
          <p:spPr>
            <a:xfrm>
              <a:off x="5969160" y="3625920"/>
              <a:ext cx="53964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30" name="Rectangle 12"/>
            <p:cNvSpPr/>
            <p:nvPr/>
          </p:nvSpPr>
          <p:spPr>
            <a:xfrm>
              <a:off x="6019920" y="365760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31" name="Line 14"/>
          <p:cNvSpPr/>
          <p:nvPr/>
        </p:nvSpPr>
        <p:spPr>
          <a:xfrm>
            <a:off x="6286680" y="4172040"/>
            <a:ext cx="0" cy="36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2" name="Line 15"/>
          <p:cNvSpPr/>
          <p:nvPr/>
        </p:nvSpPr>
        <p:spPr>
          <a:xfrm>
            <a:off x="6819840" y="4324320"/>
            <a:ext cx="0" cy="362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3" name="Group 18"/>
          <p:cNvGrpSpPr/>
          <p:nvPr/>
        </p:nvGrpSpPr>
        <p:grpSpPr>
          <a:xfrm>
            <a:off x="1873080" y="4654440"/>
            <a:ext cx="540000" cy="551160"/>
            <a:chOff x="1873080" y="4654440"/>
            <a:chExt cx="540000" cy="551160"/>
          </a:xfrm>
        </p:grpSpPr>
        <p:sp>
          <p:nvSpPr>
            <p:cNvPr id="334" name="Oval 16"/>
            <p:cNvSpPr/>
            <p:nvPr/>
          </p:nvSpPr>
          <p:spPr>
            <a:xfrm>
              <a:off x="1873080" y="4654440"/>
              <a:ext cx="54000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35" name="Rectangle 17"/>
            <p:cNvSpPr/>
            <p:nvPr/>
          </p:nvSpPr>
          <p:spPr>
            <a:xfrm>
              <a:off x="1924200" y="468648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36" name="Group 21"/>
          <p:cNvGrpSpPr/>
          <p:nvPr/>
        </p:nvGrpSpPr>
        <p:grpSpPr>
          <a:xfrm>
            <a:off x="1187280" y="4749840"/>
            <a:ext cx="540000" cy="550800"/>
            <a:chOff x="1187280" y="4749840"/>
            <a:chExt cx="540000" cy="550800"/>
          </a:xfrm>
        </p:grpSpPr>
        <p:sp>
          <p:nvSpPr>
            <p:cNvPr id="337" name="Oval 19"/>
            <p:cNvSpPr/>
            <p:nvPr/>
          </p:nvSpPr>
          <p:spPr>
            <a:xfrm>
              <a:off x="1187280" y="474984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38" name="Rectangle 20"/>
            <p:cNvSpPr/>
            <p:nvPr/>
          </p:nvSpPr>
          <p:spPr>
            <a:xfrm>
              <a:off x="1238400" y="478152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39" name="Line 22"/>
          <p:cNvSpPr/>
          <p:nvPr/>
        </p:nvSpPr>
        <p:spPr>
          <a:xfrm>
            <a:off x="1504800" y="5295960"/>
            <a:ext cx="0" cy="36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Line 23"/>
          <p:cNvSpPr/>
          <p:nvPr/>
        </p:nvSpPr>
        <p:spPr>
          <a:xfrm>
            <a:off x="2133720" y="5200560"/>
            <a:ext cx="0" cy="362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2" name="Group 27"/>
          <p:cNvGrpSpPr/>
          <p:nvPr/>
        </p:nvGrpSpPr>
        <p:grpSpPr>
          <a:xfrm>
            <a:off x="4102200" y="3778200"/>
            <a:ext cx="863640" cy="806400"/>
            <a:chOff x="4102200" y="3778200"/>
            <a:chExt cx="863640" cy="806400"/>
          </a:xfrm>
        </p:grpSpPr>
        <p:sp>
          <p:nvSpPr>
            <p:cNvPr id="343" name="Oval 25"/>
            <p:cNvSpPr/>
            <p:nvPr/>
          </p:nvSpPr>
          <p:spPr>
            <a:xfrm>
              <a:off x="4102200" y="3778200"/>
              <a:ext cx="863640" cy="806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44" name="Rectangle 26"/>
            <p:cNvSpPr/>
            <p:nvPr/>
          </p:nvSpPr>
          <p:spPr>
            <a:xfrm>
              <a:off x="4286160" y="3886200"/>
              <a:ext cx="609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45" name="Line 28"/>
          <p:cNvSpPr/>
          <p:nvPr/>
        </p:nvSpPr>
        <p:spPr>
          <a:xfrm>
            <a:off x="3467160" y="403848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Line 29"/>
          <p:cNvSpPr/>
          <p:nvPr/>
        </p:nvSpPr>
        <p:spPr>
          <a:xfrm>
            <a:off x="2381400" y="4229280"/>
            <a:ext cx="761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7" name="Line 30"/>
          <p:cNvSpPr/>
          <p:nvPr/>
        </p:nvSpPr>
        <p:spPr>
          <a:xfrm>
            <a:off x="4724280" y="419112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8" name="Group 33"/>
          <p:cNvGrpSpPr/>
          <p:nvPr/>
        </p:nvGrpSpPr>
        <p:grpSpPr>
          <a:xfrm>
            <a:off x="5187960" y="3911760"/>
            <a:ext cx="539640" cy="550800"/>
            <a:chOff x="5187960" y="3911760"/>
            <a:chExt cx="539640" cy="550800"/>
          </a:xfrm>
        </p:grpSpPr>
        <p:sp>
          <p:nvSpPr>
            <p:cNvPr id="349" name="Oval 31"/>
            <p:cNvSpPr/>
            <p:nvPr/>
          </p:nvSpPr>
          <p:spPr>
            <a:xfrm>
              <a:off x="5187960" y="391176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50" name="Rectangle 32"/>
            <p:cNvSpPr/>
            <p:nvPr/>
          </p:nvSpPr>
          <p:spPr>
            <a:xfrm>
              <a:off x="5238720" y="394344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51" name="Group 36"/>
          <p:cNvGrpSpPr/>
          <p:nvPr/>
        </p:nvGrpSpPr>
        <p:grpSpPr>
          <a:xfrm>
            <a:off x="2025720" y="3930480"/>
            <a:ext cx="539640" cy="551160"/>
            <a:chOff x="2025720" y="3930480"/>
            <a:chExt cx="539640" cy="551160"/>
          </a:xfrm>
        </p:grpSpPr>
        <p:sp>
          <p:nvSpPr>
            <p:cNvPr id="352" name="Oval 34"/>
            <p:cNvSpPr/>
            <p:nvPr/>
          </p:nvSpPr>
          <p:spPr>
            <a:xfrm>
              <a:off x="2025720" y="393048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53" name="Rectangle 35"/>
            <p:cNvSpPr/>
            <p:nvPr/>
          </p:nvSpPr>
          <p:spPr>
            <a:xfrm>
              <a:off x="2076480" y="396252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54" name="Group 39"/>
          <p:cNvGrpSpPr/>
          <p:nvPr/>
        </p:nvGrpSpPr>
        <p:grpSpPr>
          <a:xfrm>
            <a:off x="2832120" y="3803760"/>
            <a:ext cx="851040" cy="793800"/>
            <a:chOff x="2832120" y="3803760"/>
            <a:chExt cx="851040" cy="793800"/>
          </a:xfrm>
        </p:grpSpPr>
        <p:sp>
          <p:nvSpPr>
            <p:cNvPr id="355" name="Oval 37"/>
            <p:cNvSpPr/>
            <p:nvPr/>
          </p:nvSpPr>
          <p:spPr>
            <a:xfrm>
              <a:off x="2832120" y="3803760"/>
              <a:ext cx="851040" cy="793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56" name="Rectangle 38"/>
            <p:cNvSpPr/>
            <p:nvPr/>
          </p:nvSpPr>
          <p:spPr>
            <a:xfrm>
              <a:off x="3009960" y="3905280"/>
              <a:ext cx="6094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57" name="Line 40"/>
          <p:cNvSpPr/>
          <p:nvPr/>
        </p:nvSpPr>
        <p:spPr>
          <a:xfrm flipV="1">
            <a:off x="3219480" y="342900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8" name="Line 41"/>
          <p:cNvSpPr/>
          <p:nvPr/>
        </p:nvSpPr>
        <p:spPr>
          <a:xfrm flipV="1">
            <a:off x="4514760" y="346716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9" name="Group 44"/>
          <p:cNvGrpSpPr/>
          <p:nvPr/>
        </p:nvGrpSpPr>
        <p:grpSpPr>
          <a:xfrm>
            <a:off x="4235400" y="3035160"/>
            <a:ext cx="539640" cy="551160"/>
            <a:chOff x="4235400" y="3035160"/>
            <a:chExt cx="539640" cy="551160"/>
          </a:xfrm>
        </p:grpSpPr>
        <p:sp>
          <p:nvSpPr>
            <p:cNvPr id="360" name="Oval 42"/>
            <p:cNvSpPr/>
            <p:nvPr/>
          </p:nvSpPr>
          <p:spPr>
            <a:xfrm>
              <a:off x="4235400" y="303516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1" name="Rectangle 43"/>
            <p:cNvSpPr/>
            <p:nvPr/>
          </p:nvSpPr>
          <p:spPr>
            <a:xfrm>
              <a:off x="4286160" y="3067200"/>
              <a:ext cx="400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62" name="Group 47"/>
          <p:cNvGrpSpPr/>
          <p:nvPr/>
        </p:nvGrpSpPr>
        <p:grpSpPr>
          <a:xfrm>
            <a:off x="2959200" y="3035160"/>
            <a:ext cx="539640" cy="551160"/>
            <a:chOff x="2959200" y="3035160"/>
            <a:chExt cx="539640" cy="551160"/>
          </a:xfrm>
        </p:grpSpPr>
        <p:sp>
          <p:nvSpPr>
            <p:cNvPr id="363" name="Oval 45"/>
            <p:cNvSpPr/>
            <p:nvPr/>
          </p:nvSpPr>
          <p:spPr>
            <a:xfrm>
              <a:off x="2959200" y="303516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64" name="Rectangle 46"/>
            <p:cNvSpPr/>
            <p:nvPr/>
          </p:nvSpPr>
          <p:spPr>
            <a:xfrm>
              <a:off x="3009960" y="306720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65" name="Line 48"/>
          <p:cNvSpPr/>
          <p:nvPr/>
        </p:nvSpPr>
        <p:spPr>
          <a:xfrm flipV="1">
            <a:off x="3276720" y="447660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Line 49"/>
          <p:cNvSpPr/>
          <p:nvPr/>
        </p:nvSpPr>
        <p:spPr>
          <a:xfrm flipV="1">
            <a:off x="4533840" y="4419360"/>
            <a:ext cx="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42720" y="1599840"/>
            <a:ext cx="8096040" cy="13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double bond breaks and bonds to the cataly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254160" y="1511280"/>
            <a:ext cx="8692920" cy="457848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69" name="Group 6"/>
          <p:cNvGrpSpPr/>
          <p:nvPr/>
        </p:nvGrpSpPr>
        <p:grpSpPr>
          <a:xfrm>
            <a:off x="819000" y="4224240"/>
            <a:ext cx="7145640" cy="1560600"/>
            <a:chOff x="819000" y="4224240"/>
            <a:chExt cx="7145640" cy="1560600"/>
          </a:xfrm>
        </p:grpSpPr>
        <p:sp>
          <p:nvSpPr>
            <p:cNvPr id="370" name="Freeform 3"/>
            <p:cNvSpPr/>
            <p:nvPr/>
          </p:nvSpPr>
          <p:spPr>
            <a:xfrm>
              <a:off x="819000" y="4224240"/>
              <a:ext cx="7145640" cy="1511280"/>
            </a:xfrm>
            <a:prstGeom prst="pi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1" name="Rectangle 4"/>
            <p:cNvSpPr/>
            <p:nvPr/>
          </p:nvSpPr>
          <p:spPr>
            <a:xfrm>
              <a:off x="865080" y="5716440"/>
              <a:ext cx="474516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2" name="Freeform 5"/>
            <p:cNvSpPr/>
            <p:nvPr/>
          </p:nvSpPr>
          <p:spPr>
            <a:xfrm>
              <a:off x="5600880" y="4229280"/>
              <a:ext cx="2358720" cy="1549080"/>
            </a:xfrm>
            <a:prstGeom prst="pie">
              <a:avLst/>
            </a:pr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73" name="Rectangle 7"/>
          <p:cNvSpPr/>
          <p:nvPr/>
        </p:nvSpPr>
        <p:spPr>
          <a:xfrm>
            <a:off x="3486240" y="5181480"/>
            <a:ext cx="2114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Book Antiqua"/>
              </a:rPr>
              <a:t>Pt surfac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4" name="Group 10"/>
          <p:cNvGrpSpPr/>
          <p:nvPr/>
        </p:nvGrpSpPr>
        <p:grpSpPr>
          <a:xfrm>
            <a:off x="6559560" y="3778200"/>
            <a:ext cx="539640" cy="550800"/>
            <a:chOff x="6559560" y="3778200"/>
            <a:chExt cx="539640" cy="550800"/>
          </a:xfrm>
        </p:grpSpPr>
        <p:sp>
          <p:nvSpPr>
            <p:cNvPr id="375" name="Oval 8"/>
            <p:cNvSpPr/>
            <p:nvPr/>
          </p:nvSpPr>
          <p:spPr>
            <a:xfrm>
              <a:off x="6559560" y="377820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6" name="Rectangle 9"/>
            <p:cNvSpPr/>
            <p:nvPr/>
          </p:nvSpPr>
          <p:spPr>
            <a:xfrm>
              <a:off x="6610320" y="380988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77" name="Group 13"/>
          <p:cNvGrpSpPr/>
          <p:nvPr/>
        </p:nvGrpSpPr>
        <p:grpSpPr>
          <a:xfrm>
            <a:off x="5969160" y="3625920"/>
            <a:ext cx="539640" cy="550800"/>
            <a:chOff x="5969160" y="3625920"/>
            <a:chExt cx="539640" cy="550800"/>
          </a:xfrm>
        </p:grpSpPr>
        <p:sp>
          <p:nvSpPr>
            <p:cNvPr id="378" name="Oval 11"/>
            <p:cNvSpPr/>
            <p:nvPr/>
          </p:nvSpPr>
          <p:spPr>
            <a:xfrm>
              <a:off x="5969160" y="3625920"/>
              <a:ext cx="53964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79" name="Rectangle 12"/>
            <p:cNvSpPr/>
            <p:nvPr/>
          </p:nvSpPr>
          <p:spPr>
            <a:xfrm>
              <a:off x="6019920" y="365760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80" name="Line 14"/>
          <p:cNvSpPr/>
          <p:nvPr/>
        </p:nvSpPr>
        <p:spPr>
          <a:xfrm>
            <a:off x="6286680" y="4172040"/>
            <a:ext cx="0" cy="36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1" name="Line 15"/>
          <p:cNvSpPr/>
          <p:nvPr/>
        </p:nvSpPr>
        <p:spPr>
          <a:xfrm>
            <a:off x="6819840" y="4324320"/>
            <a:ext cx="0" cy="362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82" name="Group 18"/>
          <p:cNvGrpSpPr/>
          <p:nvPr/>
        </p:nvGrpSpPr>
        <p:grpSpPr>
          <a:xfrm>
            <a:off x="1873080" y="4654440"/>
            <a:ext cx="540000" cy="551160"/>
            <a:chOff x="1873080" y="4654440"/>
            <a:chExt cx="540000" cy="551160"/>
          </a:xfrm>
        </p:grpSpPr>
        <p:sp>
          <p:nvSpPr>
            <p:cNvPr id="383" name="Oval 16"/>
            <p:cNvSpPr/>
            <p:nvPr/>
          </p:nvSpPr>
          <p:spPr>
            <a:xfrm>
              <a:off x="1873080" y="4654440"/>
              <a:ext cx="54000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4" name="Rectangle 17"/>
            <p:cNvSpPr/>
            <p:nvPr/>
          </p:nvSpPr>
          <p:spPr>
            <a:xfrm>
              <a:off x="1924200" y="468648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385" name="Group 21"/>
          <p:cNvGrpSpPr/>
          <p:nvPr/>
        </p:nvGrpSpPr>
        <p:grpSpPr>
          <a:xfrm>
            <a:off x="1187280" y="4749840"/>
            <a:ext cx="540000" cy="550800"/>
            <a:chOff x="1187280" y="4749840"/>
            <a:chExt cx="540000" cy="550800"/>
          </a:xfrm>
        </p:grpSpPr>
        <p:sp>
          <p:nvSpPr>
            <p:cNvPr id="386" name="Oval 19"/>
            <p:cNvSpPr/>
            <p:nvPr/>
          </p:nvSpPr>
          <p:spPr>
            <a:xfrm>
              <a:off x="1187280" y="474984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87" name="Rectangle 20"/>
            <p:cNvSpPr/>
            <p:nvPr/>
          </p:nvSpPr>
          <p:spPr>
            <a:xfrm>
              <a:off x="1238400" y="478152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88" name="Line 22"/>
          <p:cNvSpPr/>
          <p:nvPr/>
        </p:nvSpPr>
        <p:spPr>
          <a:xfrm>
            <a:off x="1504800" y="5295960"/>
            <a:ext cx="0" cy="36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9" name="Line 23"/>
          <p:cNvSpPr/>
          <p:nvPr/>
        </p:nvSpPr>
        <p:spPr>
          <a:xfrm>
            <a:off x="2133720" y="5200560"/>
            <a:ext cx="0" cy="362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91" name="Group 27"/>
          <p:cNvGrpSpPr/>
          <p:nvPr/>
        </p:nvGrpSpPr>
        <p:grpSpPr>
          <a:xfrm>
            <a:off x="4102200" y="3778200"/>
            <a:ext cx="863640" cy="806400"/>
            <a:chOff x="4102200" y="3778200"/>
            <a:chExt cx="863640" cy="806400"/>
          </a:xfrm>
        </p:grpSpPr>
        <p:sp>
          <p:nvSpPr>
            <p:cNvPr id="392" name="Oval 25"/>
            <p:cNvSpPr/>
            <p:nvPr/>
          </p:nvSpPr>
          <p:spPr>
            <a:xfrm>
              <a:off x="4102200" y="3778200"/>
              <a:ext cx="863640" cy="806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93" name="Rectangle 26"/>
            <p:cNvSpPr/>
            <p:nvPr/>
          </p:nvSpPr>
          <p:spPr>
            <a:xfrm>
              <a:off x="4286160" y="3886200"/>
              <a:ext cx="609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94" name="Line 28"/>
          <p:cNvSpPr/>
          <p:nvPr/>
        </p:nvSpPr>
        <p:spPr>
          <a:xfrm>
            <a:off x="3467160" y="403848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Line 29"/>
          <p:cNvSpPr/>
          <p:nvPr/>
        </p:nvSpPr>
        <p:spPr>
          <a:xfrm>
            <a:off x="2381400" y="4229280"/>
            <a:ext cx="761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Line 30"/>
          <p:cNvSpPr/>
          <p:nvPr/>
        </p:nvSpPr>
        <p:spPr>
          <a:xfrm>
            <a:off x="4724280" y="419112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97" name="Group 33"/>
          <p:cNvGrpSpPr/>
          <p:nvPr/>
        </p:nvGrpSpPr>
        <p:grpSpPr>
          <a:xfrm>
            <a:off x="5187960" y="3911760"/>
            <a:ext cx="539640" cy="550800"/>
            <a:chOff x="5187960" y="3911760"/>
            <a:chExt cx="539640" cy="550800"/>
          </a:xfrm>
        </p:grpSpPr>
        <p:sp>
          <p:nvSpPr>
            <p:cNvPr id="398" name="Oval 31"/>
            <p:cNvSpPr/>
            <p:nvPr/>
          </p:nvSpPr>
          <p:spPr>
            <a:xfrm>
              <a:off x="5187960" y="391176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399" name="Rectangle 32"/>
            <p:cNvSpPr/>
            <p:nvPr/>
          </p:nvSpPr>
          <p:spPr>
            <a:xfrm>
              <a:off x="5238720" y="394344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00" name="Group 36"/>
          <p:cNvGrpSpPr/>
          <p:nvPr/>
        </p:nvGrpSpPr>
        <p:grpSpPr>
          <a:xfrm>
            <a:off x="2025720" y="3930480"/>
            <a:ext cx="539640" cy="551160"/>
            <a:chOff x="2025720" y="3930480"/>
            <a:chExt cx="539640" cy="551160"/>
          </a:xfrm>
        </p:grpSpPr>
        <p:sp>
          <p:nvSpPr>
            <p:cNvPr id="401" name="Oval 34"/>
            <p:cNvSpPr/>
            <p:nvPr/>
          </p:nvSpPr>
          <p:spPr>
            <a:xfrm>
              <a:off x="2025720" y="393048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02" name="Rectangle 35"/>
            <p:cNvSpPr/>
            <p:nvPr/>
          </p:nvSpPr>
          <p:spPr>
            <a:xfrm>
              <a:off x="2076480" y="396252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03" name="Group 39"/>
          <p:cNvGrpSpPr/>
          <p:nvPr/>
        </p:nvGrpSpPr>
        <p:grpSpPr>
          <a:xfrm>
            <a:off x="2832120" y="3803760"/>
            <a:ext cx="851040" cy="793800"/>
            <a:chOff x="2832120" y="3803760"/>
            <a:chExt cx="851040" cy="793800"/>
          </a:xfrm>
        </p:grpSpPr>
        <p:sp>
          <p:nvSpPr>
            <p:cNvPr id="404" name="Oval 37"/>
            <p:cNvSpPr/>
            <p:nvPr/>
          </p:nvSpPr>
          <p:spPr>
            <a:xfrm>
              <a:off x="2832120" y="3803760"/>
              <a:ext cx="851040" cy="793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05" name="Rectangle 38"/>
            <p:cNvSpPr/>
            <p:nvPr/>
          </p:nvSpPr>
          <p:spPr>
            <a:xfrm>
              <a:off x="3009960" y="3905280"/>
              <a:ext cx="6094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406" name="Line 40"/>
          <p:cNvSpPr/>
          <p:nvPr/>
        </p:nvSpPr>
        <p:spPr>
          <a:xfrm flipV="1">
            <a:off x="3219480" y="342900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7" name="Line 41"/>
          <p:cNvSpPr/>
          <p:nvPr/>
        </p:nvSpPr>
        <p:spPr>
          <a:xfrm flipV="1">
            <a:off x="4514760" y="346716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4235400" y="3035160"/>
            <a:ext cx="539640" cy="551160"/>
            <a:chOff x="4235400" y="3035160"/>
            <a:chExt cx="539640" cy="551160"/>
          </a:xfrm>
        </p:grpSpPr>
        <p:sp>
          <p:nvSpPr>
            <p:cNvPr id="409" name="Oval 42"/>
            <p:cNvSpPr/>
            <p:nvPr/>
          </p:nvSpPr>
          <p:spPr>
            <a:xfrm>
              <a:off x="4235400" y="303516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10" name="Rectangle 43"/>
            <p:cNvSpPr/>
            <p:nvPr/>
          </p:nvSpPr>
          <p:spPr>
            <a:xfrm>
              <a:off x="4286160" y="3067200"/>
              <a:ext cx="400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11" name="Group 47"/>
          <p:cNvGrpSpPr/>
          <p:nvPr/>
        </p:nvGrpSpPr>
        <p:grpSpPr>
          <a:xfrm>
            <a:off x="2959200" y="3035160"/>
            <a:ext cx="539640" cy="551160"/>
            <a:chOff x="2959200" y="3035160"/>
            <a:chExt cx="539640" cy="551160"/>
          </a:xfrm>
        </p:grpSpPr>
        <p:sp>
          <p:nvSpPr>
            <p:cNvPr id="412" name="Oval 45"/>
            <p:cNvSpPr/>
            <p:nvPr/>
          </p:nvSpPr>
          <p:spPr>
            <a:xfrm>
              <a:off x="2959200" y="303516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13" name="Rectangle 46"/>
            <p:cNvSpPr/>
            <p:nvPr/>
          </p:nvSpPr>
          <p:spPr>
            <a:xfrm>
              <a:off x="3009960" y="306720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414" name="Line 48"/>
          <p:cNvSpPr/>
          <p:nvPr/>
        </p:nvSpPr>
        <p:spPr>
          <a:xfrm flipV="1">
            <a:off x="3276720" y="447660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5" name="Line 49"/>
          <p:cNvSpPr/>
          <p:nvPr/>
        </p:nvSpPr>
        <p:spPr>
          <a:xfrm flipV="1">
            <a:off x="4533840" y="4419360"/>
            <a:ext cx="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42720" y="1599840"/>
            <a:ext cx="8096040" cy="13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hydrogen atoms bond with the carb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rc 51"/>
          <p:cNvSpPr/>
          <p:nvPr/>
        </p:nvSpPr>
        <p:spPr>
          <a:xfrm>
            <a:off x="4573440" y="4152960"/>
            <a:ext cx="2251080" cy="1162080"/>
          </a:xfrm>
          <a:prstGeom prst="pie">
            <a:avLst/>
          </a:prstGeom>
          <a:noFill/>
          <a:ln cap="rnd" w="50760">
            <a:solidFill>
              <a:srgbClr val="e844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Arc 52"/>
          <p:cNvSpPr/>
          <p:nvPr/>
        </p:nvSpPr>
        <p:spPr>
          <a:xfrm>
            <a:off x="2135160" y="4549680"/>
            <a:ext cx="1162080" cy="1411560"/>
          </a:xfrm>
          <a:prstGeom prst="pie">
            <a:avLst/>
          </a:prstGeom>
          <a:noFill/>
          <a:ln cap="rnd" w="50760">
            <a:solidFill>
              <a:srgbClr val="e844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254160" y="1511280"/>
            <a:ext cx="8692920" cy="457848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0" name="Group 6"/>
          <p:cNvGrpSpPr/>
          <p:nvPr/>
        </p:nvGrpSpPr>
        <p:grpSpPr>
          <a:xfrm>
            <a:off x="819000" y="4224240"/>
            <a:ext cx="7145640" cy="1560600"/>
            <a:chOff x="819000" y="4224240"/>
            <a:chExt cx="7145640" cy="1560600"/>
          </a:xfrm>
        </p:grpSpPr>
        <p:sp>
          <p:nvSpPr>
            <p:cNvPr id="421" name="Freeform 3"/>
            <p:cNvSpPr/>
            <p:nvPr/>
          </p:nvSpPr>
          <p:spPr>
            <a:xfrm>
              <a:off x="819000" y="4224240"/>
              <a:ext cx="7145640" cy="1511280"/>
            </a:xfrm>
            <a:prstGeom prst="pi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22" name="Rectangle 4"/>
            <p:cNvSpPr/>
            <p:nvPr/>
          </p:nvSpPr>
          <p:spPr>
            <a:xfrm>
              <a:off x="865080" y="5716440"/>
              <a:ext cx="474516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23" name="Freeform 5"/>
            <p:cNvSpPr/>
            <p:nvPr/>
          </p:nvSpPr>
          <p:spPr>
            <a:xfrm>
              <a:off x="5600880" y="4229280"/>
              <a:ext cx="2358720" cy="1549080"/>
            </a:xfrm>
            <a:prstGeom prst="pie">
              <a:avLst/>
            </a:pr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424" name="Rectangle 7"/>
          <p:cNvSpPr/>
          <p:nvPr/>
        </p:nvSpPr>
        <p:spPr>
          <a:xfrm>
            <a:off x="3486240" y="5181480"/>
            <a:ext cx="2114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Book Antiqua"/>
              </a:rPr>
              <a:t>Pt surfac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5" name="Line 8"/>
          <p:cNvSpPr/>
          <p:nvPr/>
        </p:nvSpPr>
        <p:spPr>
          <a:xfrm>
            <a:off x="6286680" y="4172040"/>
            <a:ext cx="0" cy="36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1187280" y="4749840"/>
            <a:ext cx="540000" cy="550800"/>
            <a:chOff x="1187280" y="4749840"/>
            <a:chExt cx="540000" cy="550800"/>
          </a:xfrm>
        </p:grpSpPr>
        <p:sp>
          <p:nvSpPr>
            <p:cNvPr id="427" name="Oval 9"/>
            <p:cNvSpPr/>
            <p:nvPr/>
          </p:nvSpPr>
          <p:spPr>
            <a:xfrm>
              <a:off x="1187280" y="474984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28" name="Rectangle 10"/>
            <p:cNvSpPr/>
            <p:nvPr/>
          </p:nvSpPr>
          <p:spPr>
            <a:xfrm>
              <a:off x="1238400" y="478152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429" name="Line 12"/>
          <p:cNvSpPr/>
          <p:nvPr/>
        </p:nvSpPr>
        <p:spPr>
          <a:xfrm>
            <a:off x="1504800" y="5295960"/>
            <a:ext cx="0" cy="36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31" name="Group 16"/>
          <p:cNvGrpSpPr/>
          <p:nvPr/>
        </p:nvGrpSpPr>
        <p:grpSpPr>
          <a:xfrm>
            <a:off x="4006800" y="2768760"/>
            <a:ext cx="863640" cy="806400"/>
            <a:chOff x="4006800" y="2768760"/>
            <a:chExt cx="863640" cy="806400"/>
          </a:xfrm>
        </p:grpSpPr>
        <p:sp>
          <p:nvSpPr>
            <p:cNvPr id="432" name="Oval 14"/>
            <p:cNvSpPr/>
            <p:nvPr/>
          </p:nvSpPr>
          <p:spPr>
            <a:xfrm>
              <a:off x="4006800" y="2768760"/>
              <a:ext cx="863640" cy="806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33" name="Rectangle 15"/>
            <p:cNvSpPr/>
            <p:nvPr/>
          </p:nvSpPr>
          <p:spPr>
            <a:xfrm>
              <a:off x="4191120" y="2876400"/>
              <a:ext cx="6094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434" name="Line 17"/>
          <p:cNvSpPr/>
          <p:nvPr/>
        </p:nvSpPr>
        <p:spPr>
          <a:xfrm>
            <a:off x="3429000" y="320040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5" name="Line 18"/>
          <p:cNvSpPr/>
          <p:nvPr/>
        </p:nvSpPr>
        <p:spPr>
          <a:xfrm>
            <a:off x="2286000" y="321948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6" name="Line 19"/>
          <p:cNvSpPr/>
          <p:nvPr/>
        </p:nvSpPr>
        <p:spPr>
          <a:xfrm>
            <a:off x="4629240" y="3181320"/>
            <a:ext cx="761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37" name="Group 22"/>
          <p:cNvGrpSpPr/>
          <p:nvPr/>
        </p:nvGrpSpPr>
        <p:grpSpPr>
          <a:xfrm>
            <a:off x="5092560" y="2901960"/>
            <a:ext cx="540000" cy="550800"/>
            <a:chOff x="5092560" y="2901960"/>
            <a:chExt cx="540000" cy="550800"/>
          </a:xfrm>
        </p:grpSpPr>
        <p:sp>
          <p:nvSpPr>
            <p:cNvPr id="438" name="Oval 20"/>
            <p:cNvSpPr/>
            <p:nvPr/>
          </p:nvSpPr>
          <p:spPr>
            <a:xfrm>
              <a:off x="5092560" y="2901960"/>
              <a:ext cx="54000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39" name="Rectangle 21"/>
            <p:cNvSpPr/>
            <p:nvPr/>
          </p:nvSpPr>
          <p:spPr>
            <a:xfrm>
              <a:off x="5143680" y="293364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40" name="Group 25"/>
          <p:cNvGrpSpPr/>
          <p:nvPr/>
        </p:nvGrpSpPr>
        <p:grpSpPr>
          <a:xfrm>
            <a:off x="1930320" y="2921040"/>
            <a:ext cx="540000" cy="550800"/>
            <a:chOff x="1930320" y="2921040"/>
            <a:chExt cx="540000" cy="550800"/>
          </a:xfrm>
        </p:grpSpPr>
        <p:sp>
          <p:nvSpPr>
            <p:cNvPr id="441" name="Oval 23"/>
            <p:cNvSpPr/>
            <p:nvPr/>
          </p:nvSpPr>
          <p:spPr>
            <a:xfrm>
              <a:off x="1930320" y="2921040"/>
              <a:ext cx="54000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42" name="Rectangle 24"/>
            <p:cNvSpPr/>
            <p:nvPr/>
          </p:nvSpPr>
          <p:spPr>
            <a:xfrm>
              <a:off x="1981080" y="2952720"/>
              <a:ext cx="400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43" name="Group 28"/>
          <p:cNvGrpSpPr/>
          <p:nvPr/>
        </p:nvGrpSpPr>
        <p:grpSpPr>
          <a:xfrm>
            <a:off x="2736720" y="2793960"/>
            <a:ext cx="851040" cy="793800"/>
            <a:chOff x="2736720" y="2793960"/>
            <a:chExt cx="851040" cy="793800"/>
          </a:xfrm>
        </p:grpSpPr>
        <p:sp>
          <p:nvSpPr>
            <p:cNvPr id="444" name="Oval 26"/>
            <p:cNvSpPr/>
            <p:nvPr/>
          </p:nvSpPr>
          <p:spPr>
            <a:xfrm>
              <a:off x="2736720" y="2793960"/>
              <a:ext cx="851040" cy="793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45" name="Rectangle 27"/>
            <p:cNvSpPr/>
            <p:nvPr/>
          </p:nvSpPr>
          <p:spPr>
            <a:xfrm>
              <a:off x="2914560" y="2895480"/>
              <a:ext cx="609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446" name="Line 29"/>
          <p:cNvSpPr/>
          <p:nvPr/>
        </p:nvSpPr>
        <p:spPr>
          <a:xfrm flipV="1">
            <a:off x="3124080" y="241920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Line 30"/>
          <p:cNvSpPr/>
          <p:nvPr/>
        </p:nvSpPr>
        <p:spPr>
          <a:xfrm flipV="1">
            <a:off x="4419720" y="245736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48" name="Group 33"/>
          <p:cNvGrpSpPr/>
          <p:nvPr/>
        </p:nvGrpSpPr>
        <p:grpSpPr>
          <a:xfrm>
            <a:off x="4140360" y="2025720"/>
            <a:ext cx="539640" cy="550800"/>
            <a:chOff x="4140360" y="2025720"/>
            <a:chExt cx="539640" cy="550800"/>
          </a:xfrm>
        </p:grpSpPr>
        <p:sp>
          <p:nvSpPr>
            <p:cNvPr id="449" name="Oval 31"/>
            <p:cNvSpPr/>
            <p:nvPr/>
          </p:nvSpPr>
          <p:spPr>
            <a:xfrm>
              <a:off x="4140360" y="202572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0" name="Rectangle 32"/>
            <p:cNvSpPr/>
            <p:nvPr/>
          </p:nvSpPr>
          <p:spPr>
            <a:xfrm>
              <a:off x="4191120" y="205740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51" name="Group 36"/>
          <p:cNvGrpSpPr/>
          <p:nvPr/>
        </p:nvGrpSpPr>
        <p:grpSpPr>
          <a:xfrm>
            <a:off x="2863800" y="2025720"/>
            <a:ext cx="539640" cy="550800"/>
            <a:chOff x="2863800" y="2025720"/>
            <a:chExt cx="539640" cy="550800"/>
          </a:xfrm>
        </p:grpSpPr>
        <p:sp>
          <p:nvSpPr>
            <p:cNvPr id="452" name="Oval 34"/>
            <p:cNvSpPr/>
            <p:nvPr/>
          </p:nvSpPr>
          <p:spPr>
            <a:xfrm>
              <a:off x="2863800" y="202572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3" name="Rectangle 35"/>
            <p:cNvSpPr/>
            <p:nvPr/>
          </p:nvSpPr>
          <p:spPr>
            <a:xfrm>
              <a:off x="2914560" y="2057400"/>
              <a:ext cx="400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454" name="Line 37"/>
          <p:cNvSpPr/>
          <p:nvPr/>
        </p:nvSpPr>
        <p:spPr>
          <a:xfrm flipV="1">
            <a:off x="3181320" y="346716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5" name="Line 38"/>
          <p:cNvSpPr/>
          <p:nvPr/>
        </p:nvSpPr>
        <p:spPr>
          <a:xfrm flipV="1">
            <a:off x="4438800" y="340992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56" name="Group 41"/>
          <p:cNvGrpSpPr/>
          <p:nvPr/>
        </p:nvGrpSpPr>
        <p:grpSpPr>
          <a:xfrm>
            <a:off x="4178160" y="3759120"/>
            <a:ext cx="540000" cy="550800"/>
            <a:chOff x="4178160" y="3759120"/>
            <a:chExt cx="540000" cy="550800"/>
          </a:xfrm>
        </p:grpSpPr>
        <p:sp>
          <p:nvSpPr>
            <p:cNvPr id="457" name="Oval 39"/>
            <p:cNvSpPr/>
            <p:nvPr/>
          </p:nvSpPr>
          <p:spPr>
            <a:xfrm>
              <a:off x="4178160" y="3759120"/>
              <a:ext cx="54000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58" name="Rectangle 40"/>
            <p:cNvSpPr/>
            <p:nvPr/>
          </p:nvSpPr>
          <p:spPr>
            <a:xfrm>
              <a:off x="4229280" y="379080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59" name="Group 44"/>
          <p:cNvGrpSpPr/>
          <p:nvPr/>
        </p:nvGrpSpPr>
        <p:grpSpPr>
          <a:xfrm>
            <a:off x="6006960" y="3759120"/>
            <a:ext cx="540000" cy="550800"/>
            <a:chOff x="6006960" y="3759120"/>
            <a:chExt cx="540000" cy="550800"/>
          </a:xfrm>
        </p:grpSpPr>
        <p:sp>
          <p:nvSpPr>
            <p:cNvPr id="460" name="Oval 42"/>
            <p:cNvSpPr/>
            <p:nvPr/>
          </p:nvSpPr>
          <p:spPr>
            <a:xfrm>
              <a:off x="6006960" y="375912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1" name="Rectangle 43"/>
            <p:cNvSpPr/>
            <p:nvPr/>
          </p:nvSpPr>
          <p:spPr>
            <a:xfrm>
              <a:off x="6058080" y="379080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62" name="Group 47"/>
          <p:cNvGrpSpPr/>
          <p:nvPr/>
        </p:nvGrpSpPr>
        <p:grpSpPr>
          <a:xfrm>
            <a:off x="2901960" y="3797280"/>
            <a:ext cx="539640" cy="550800"/>
            <a:chOff x="2901960" y="3797280"/>
            <a:chExt cx="539640" cy="550800"/>
          </a:xfrm>
        </p:grpSpPr>
        <p:sp>
          <p:nvSpPr>
            <p:cNvPr id="463" name="Oval 45"/>
            <p:cNvSpPr/>
            <p:nvPr/>
          </p:nvSpPr>
          <p:spPr>
            <a:xfrm>
              <a:off x="2901960" y="379728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64" name="Rectangle 46"/>
            <p:cNvSpPr/>
            <p:nvPr/>
          </p:nvSpPr>
          <p:spPr>
            <a:xfrm>
              <a:off x="2952720" y="3828960"/>
              <a:ext cx="39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5" name="Object 2"/>
          <p:cNvGraphicFramePr/>
          <p:nvPr/>
        </p:nvGraphicFramePr>
        <p:xfrm>
          <a:off x="487440" y="914400"/>
          <a:ext cx="811692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914400"/>
                    <a:ext cx="81169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versible Reac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are spontaneous i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is neg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is positive the reaction happen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 the opposite dir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g) +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g) + energy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g) +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Group 4"/>
          <p:cNvGrpSpPr/>
          <p:nvPr/>
        </p:nvGrpSpPr>
        <p:grpSpPr>
          <a:xfrm>
            <a:off x="3724200" y="4923000"/>
            <a:ext cx="1015920" cy="428400"/>
            <a:chOff x="3724200" y="4923000"/>
            <a:chExt cx="1015920" cy="428400"/>
          </a:xfrm>
        </p:grpSpPr>
        <p:sp>
          <p:nvSpPr>
            <p:cNvPr id="470" name="Freeform 5"/>
            <p:cNvSpPr/>
            <p:nvPr/>
          </p:nvSpPr>
          <p:spPr>
            <a:xfrm>
              <a:off x="3724200" y="4923000"/>
              <a:ext cx="1015920" cy="15372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>
              <a:off x="3724200" y="5197320"/>
              <a:ext cx="1015920" cy="1540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llision Theor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rder to react molecules and atoms must touch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ust hit each other hard enough to re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break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that increases how often and how hard will make the reaction fa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quilibriu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5560" y="140004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 first put reactants together the forward reaction st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there are no products there is no reverse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forward reaction proceeds the reactants are used up so the forward reaction s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s build up, and the reverse reaction speeds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quilibriu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39560" y="1339920"/>
            <a:ext cx="83426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ly you reach a point where the reverse reaction is going as fast as the forward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dynamic equilibr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ate of the forward reaction is equal to the rate of the reverse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centration of products and reactants stays the same, but the reactions are still runn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quilibriu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39200" y="1600200"/>
            <a:ext cx="8170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quilibrium positio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ow much product and reactant there are at equilibr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n with the double arr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ants are fav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s are fav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lysts speed up both the forward and reverse reactions so don’t affect equilibrium 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Group 4"/>
          <p:cNvGrpSpPr/>
          <p:nvPr/>
        </p:nvGrpSpPr>
        <p:grpSpPr>
          <a:xfrm>
            <a:off x="861840" y="3193920"/>
            <a:ext cx="1708200" cy="428760"/>
            <a:chOff x="861840" y="3193920"/>
            <a:chExt cx="1708200" cy="428760"/>
          </a:xfrm>
        </p:grpSpPr>
        <p:sp>
          <p:nvSpPr>
            <p:cNvPr id="479" name="Freeform 5"/>
            <p:cNvSpPr/>
            <p:nvPr/>
          </p:nvSpPr>
          <p:spPr>
            <a:xfrm>
              <a:off x="1262160" y="3193920"/>
              <a:ext cx="1015920" cy="1540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80" name="Freeform 6"/>
            <p:cNvSpPr/>
            <p:nvPr/>
          </p:nvSpPr>
          <p:spPr>
            <a:xfrm>
              <a:off x="861840" y="3456000"/>
              <a:ext cx="1708200" cy="1666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81" name="Group 7"/>
          <p:cNvGrpSpPr/>
          <p:nvPr/>
        </p:nvGrpSpPr>
        <p:grpSpPr>
          <a:xfrm>
            <a:off x="896400" y="3782880"/>
            <a:ext cx="1708200" cy="428760"/>
            <a:chOff x="896400" y="3782880"/>
            <a:chExt cx="1708200" cy="428760"/>
          </a:xfrm>
        </p:grpSpPr>
        <p:sp>
          <p:nvSpPr>
            <p:cNvPr id="482" name="Freeform 8"/>
            <p:cNvSpPr/>
            <p:nvPr/>
          </p:nvSpPr>
          <p:spPr>
            <a:xfrm flipH="1">
              <a:off x="1188360" y="4057560"/>
              <a:ext cx="1015920" cy="1540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83" name="Freeform 9"/>
            <p:cNvSpPr/>
            <p:nvPr/>
          </p:nvSpPr>
          <p:spPr>
            <a:xfrm flipH="1">
              <a:off x="896040" y="3782880"/>
              <a:ext cx="1708200" cy="1666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quilibriu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39200" y="1600200"/>
            <a:ext cx="8170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lysts speed up both the forward and reverse reactions so don’t affect equilibrium 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get you there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Measuring equilibriu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14240" y="13762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equilibrium the concentrations of products and reactants are const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write a constant that will tell us where the equilibrium position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quilibrium cons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eq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[Products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coefficient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Reactants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coeffici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uare brackets [ ] means concentration in molarity (moles/lite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799920"/>
            <a:ext cx="819288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ing Equilibrium Express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equ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A + bB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cC + d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5000"/>
              </a:lnSpc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[C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D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A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B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equilibrium expressions for the following re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g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3265560" y="1803240"/>
            <a:ext cx="1015920" cy="428760"/>
            <a:chOff x="3265560" y="1803240"/>
            <a:chExt cx="1015920" cy="428760"/>
          </a:xfrm>
        </p:grpSpPr>
        <p:sp>
          <p:nvSpPr>
            <p:cNvPr id="491" name="Freeform 5"/>
            <p:cNvSpPr/>
            <p:nvPr/>
          </p:nvSpPr>
          <p:spPr>
            <a:xfrm>
              <a:off x="3265560" y="1803240"/>
              <a:ext cx="1015920" cy="1540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92" name="Freeform 6"/>
            <p:cNvSpPr/>
            <p:nvPr/>
          </p:nvSpPr>
          <p:spPr>
            <a:xfrm>
              <a:off x="3265560" y="2077920"/>
              <a:ext cx="1015920" cy="1540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493" name="Line 7"/>
          <p:cNvSpPr/>
          <p:nvPr/>
        </p:nvSpPr>
        <p:spPr>
          <a:xfrm>
            <a:off x="1800360" y="3033720"/>
            <a:ext cx="1931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4" name="Group 8"/>
          <p:cNvGrpSpPr/>
          <p:nvPr/>
        </p:nvGrpSpPr>
        <p:grpSpPr>
          <a:xfrm>
            <a:off x="3803760" y="4741920"/>
            <a:ext cx="1015920" cy="428400"/>
            <a:chOff x="3803760" y="4741920"/>
            <a:chExt cx="1015920" cy="428400"/>
          </a:xfrm>
        </p:grpSpPr>
        <p:sp>
          <p:nvSpPr>
            <p:cNvPr id="495" name="Freeform 9"/>
            <p:cNvSpPr/>
            <p:nvPr/>
          </p:nvSpPr>
          <p:spPr>
            <a:xfrm>
              <a:off x="3803760" y="4741920"/>
              <a:ext cx="1015920" cy="1540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96" name="Freeform 10"/>
            <p:cNvSpPr/>
            <p:nvPr/>
          </p:nvSpPr>
          <p:spPr>
            <a:xfrm>
              <a:off x="3803760" y="5016600"/>
              <a:ext cx="1015920" cy="15372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497" name="Group 11"/>
          <p:cNvGrpSpPr/>
          <p:nvPr/>
        </p:nvGrpSpPr>
        <p:grpSpPr>
          <a:xfrm>
            <a:off x="2674800" y="5278320"/>
            <a:ext cx="1016280" cy="428760"/>
            <a:chOff x="2674800" y="5278320"/>
            <a:chExt cx="1016280" cy="428760"/>
          </a:xfrm>
        </p:grpSpPr>
        <p:sp>
          <p:nvSpPr>
            <p:cNvPr id="498" name="Freeform 12"/>
            <p:cNvSpPr/>
            <p:nvPr/>
          </p:nvSpPr>
          <p:spPr>
            <a:xfrm>
              <a:off x="2674800" y="5278320"/>
              <a:ext cx="1016280" cy="1540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499" name="Freeform 13"/>
            <p:cNvSpPr/>
            <p:nvPr/>
          </p:nvSpPr>
          <p:spPr>
            <a:xfrm>
              <a:off x="2674800" y="5553000"/>
              <a:ext cx="1016280" cy="1540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lculating Equilibriu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equilibrium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onsta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is only effected by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equilibrium constant for the following reaction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2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if at 25ºC there 0.15 mol of 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, 0.25 mol of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0.10 mol of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a 2.0 L contai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Group 4"/>
          <p:cNvGrpSpPr/>
          <p:nvPr/>
        </p:nvGrpSpPr>
        <p:grpSpPr>
          <a:xfrm>
            <a:off x="4290840" y="3227400"/>
            <a:ext cx="1016280" cy="428760"/>
            <a:chOff x="4290840" y="3227400"/>
            <a:chExt cx="1016280" cy="428760"/>
          </a:xfrm>
        </p:grpSpPr>
        <p:sp>
          <p:nvSpPr>
            <p:cNvPr id="503" name="Freeform 5"/>
            <p:cNvSpPr/>
            <p:nvPr/>
          </p:nvSpPr>
          <p:spPr>
            <a:xfrm>
              <a:off x="4290840" y="3227400"/>
              <a:ext cx="1016280" cy="1540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04" name="Freeform 6"/>
            <p:cNvSpPr/>
            <p:nvPr/>
          </p:nvSpPr>
          <p:spPr>
            <a:xfrm>
              <a:off x="4290840" y="3502080"/>
              <a:ext cx="1016280" cy="1540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it tells u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&gt; 1 Products are fav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roducts than reactants at equilibr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&lt; 1 Reactants are fav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50956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LeChâtelier’s Princip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aining Equilibr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9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LeChâtelier’s Princip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something is changed in a system at equilibrium, the system will respond to relieve the str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types of stress are appli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ing 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ing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ing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087560" y="509760"/>
            <a:ext cx="7607160" cy="5397480"/>
          </a:xfrm>
          <a:prstGeom prst="rect">
            <a:avLst/>
          </a:prstGeom>
          <a:solidFill>
            <a:srgbClr val="b3b9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 rot="16200000">
            <a:off x="75600" y="388620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 flipV="1">
            <a:off x="838080" y="1828440"/>
            <a:ext cx="0" cy="1523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886120" y="5853240"/>
            <a:ext cx="449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coordinat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Freeform 6"/>
          <p:cNvSpPr/>
          <p:nvPr/>
        </p:nvSpPr>
        <p:spPr>
          <a:xfrm>
            <a:off x="1373040" y="1692360"/>
            <a:ext cx="7164360" cy="3519360"/>
          </a:xfrm>
          <a:prstGeom prst="pie">
            <a:avLst/>
          </a:prstGeom>
          <a:noFill/>
          <a:ln cap="rnd" w="255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144440" y="3859200"/>
            <a:ext cx="231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6962760" y="5208480"/>
            <a:ext cx="2168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5" name="Group 18"/>
          <p:cNvGrpSpPr/>
          <p:nvPr/>
        </p:nvGrpSpPr>
        <p:grpSpPr>
          <a:xfrm>
            <a:off x="1349280" y="2846520"/>
            <a:ext cx="1332000" cy="799920"/>
            <a:chOff x="1349280" y="2846520"/>
            <a:chExt cx="1332000" cy="799920"/>
          </a:xfrm>
        </p:grpSpPr>
        <p:grpSp>
          <p:nvGrpSpPr>
            <p:cNvPr id="66" name="Group 11"/>
            <p:cNvGrpSpPr/>
            <p:nvPr/>
          </p:nvGrpSpPr>
          <p:grpSpPr>
            <a:xfrm>
              <a:off x="1749600" y="2846520"/>
              <a:ext cx="465120" cy="799920"/>
              <a:chOff x="1749600" y="2846520"/>
              <a:chExt cx="465120" cy="799920"/>
            </a:xfrm>
          </p:grpSpPr>
          <p:sp>
            <p:nvSpPr>
              <p:cNvPr id="67" name="Oval 9"/>
              <p:cNvSpPr/>
              <p:nvPr/>
            </p:nvSpPr>
            <p:spPr>
              <a:xfrm>
                <a:off x="1751040" y="2846520"/>
                <a:ext cx="463680" cy="46332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68" name="Oval 10"/>
              <p:cNvSpPr/>
              <p:nvPr/>
            </p:nvSpPr>
            <p:spPr>
              <a:xfrm>
                <a:off x="1749600" y="3182760"/>
                <a:ext cx="463320" cy="46368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14"/>
            <p:cNvGrpSpPr/>
            <p:nvPr/>
          </p:nvGrpSpPr>
          <p:grpSpPr>
            <a:xfrm>
              <a:off x="2446200" y="3032280"/>
              <a:ext cx="235080" cy="447480"/>
              <a:chOff x="2446200" y="3032280"/>
              <a:chExt cx="235080" cy="447480"/>
            </a:xfrm>
          </p:grpSpPr>
          <p:sp>
            <p:nvSpPr>
              <p:cNvPr id="70" name="Oval 12"/>
              <p:cNvSpPr/>
              <p:nvPr/>
            </p:nvSpPr>
            <p:spPr>
              <a:xfrm>
                <a:off x="2448000" y="3032280"/>
                <a:ext cx="23328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71" name="Oval 13"/>
              <p:cNvSpPr/>
              <p:nvPr/>
            </p:nvSpPr>
            <p:spPr>
              <a:xfrm>
                <a:off x="2446200" y="3246480"/>
                <a:ext cx="23364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7"/>
            <p:cNvGrpSpPr/>
            <p:nvPr/>
          </p:nvGrpSpPr>
          <p:grpSpPr>
            <a:xfrm>
              <a:off x="1349280" y="3049560"/>
              <a:ext cx="235080" cy="447840"/>
              <a:chOff x="1349280" y="3049560"/>
              <a:chExt cx="235080" cy="447840"/>
            </a:xfrm>
          </p:grpSpPr>
          <p:sp>
            <p:nvSpPr>
              <p:cNvPr id="73" name="Oval 15"/>
              <p:cNvSpPr/>
              <p:nvPr/>
            </p:nvSpPr>
            <p:spPr>
              <a:xfrm>
                <a:off x="1351080" y="3049560"/>
                <a:ext cx="23328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74" name="Oval 16"/>
              <p:cNvSpPr/>
              <p:nvPr/>
            </p:nvSpPr>
            <p:spPr>
              <a:xfrm>
                <a:off x="1349280" y="3263760"/>
                <a:ext cx="233280" cy="2336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Group 28"/>
          <p:cNvGrpSpPr/>
          <p:nvPr/>
        </p:nvGrpSpPr>
        <p:grpSpPr>
          <a:xfrm>
            <a:off x="2602080" y="2444760"/>
            <a:ext cx="1098360" cy="799920"/>
            <a:chOff x="2602080" y="2444760"/>
            <a:chExt cx="1098360" cy="799920"/>
          </a:xfrm>
        </p:grpSpPr>
        <p:grpSp>
          <p:nvGrpSpPr>
            <p:cNvPr id="76" name="Group 21"/>
            <p:cNvGrpSpPr/>
            <p:nvPr/>
          </p:nvGrpSpPr>
          <p:grpSpPr>
            <a:xfrm>
              <a:off x="2901960" y="2444760"/>
              <a:ext cx="465120" cy="799920"/>
              <a:chOff x="2901960" y="2444760"/>
              <a:chExt cx="465120" cy="799920"/>
            </a:xfrm>
          </p:grpSpPr>
          <p:sp>
            <p:nvSpPr>
              <p:cNvPr id="77" name="Oval 19"/>
              <p:cNvSpPr/>
              <p:nvPr/>
            </p:nvSpPr>
            <p:spPr>
              <a:xfrm>
                <a:off x="2903400" y="2444760"/>
                <a:ext cx="463680" cy="46368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78" name="Oval 20"/>
              <p:cNvSpPr/>
              <p:nvPr/>
            </p:nvSpPr>
            <p:spPr>
              <a:xfrm>
                <a:off x="2901960" y="2781360"/>
                <a:ext cx="463680" cy="46332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24"/>
            <p:cNvGrpSpPr/>
            <p:nvPr/>
          </p:nvGrpSpPr>
          <p:grpSpPr>
            <a:xfrm>
              <a:off x="3465360" y="2630520"/>
              <a:ext cx="235080" cy="447480"/>
              <a:chOff x="3465360" y="2630520"/>
              <a:chExt cx="235080" cy="447480"/>
            </a:xfrm>
          </p:grpSpPr>
          <p:sp>
            <p:nvSpPr>
              <p:cNvPr id="80" name="Oval 22"/>
              <p:cNvSpPr/>
              <p:nvPr/>
            </p:nvSpPr>
            <p:spPr>
              <a:xfrm>
                <a:off x="3467160" y="2630520"/>
                <a:ext cx="23328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81" name="Oval 23"/>
              <p:cNvSpPr/>
              <p:nvPr/>
            </p:nvSpPr>
            <p:spPr>
              <a:xfrm>
                <a:off x="3465360" y="2844720"/>
                <a:ext cx="23364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27"/>
            <p:cNvGrpSpPr/>
            <p:nvPr/>
          </p:nvGrpSpPr>
          <p:grpSpPr>
            <a:xfrm>
              <a:off x="2602080" y="2630520"/>
              <a:ext cx="234720" cy="447480"/>
              <a:chOff x="2602080" y="2630520"/>
              <a:chExt cx="234720" cy="447480"/>
            </a:xfrm>
          </p:grpSpPr>
          <p:sp>
            <p:nvSpPr>
              <p:cNvPr id="83" name="Oval 25"/>
              <p:cNvSpPr/>
              <p:nvPr/>
            </p:nvSpPr>
            <p:spPr>
              <a:xfrm>
                <a:off x="2603520" y="2630520"/>
                <a:ext cx="23328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84" name="Oval 26"/>
              <p:cNvSpPr/>
              <p:nvPr/>
            </p:nvSpPr>
            <p:spPr>
              <a:xfrm>
                <a:off x="2602080" y="2844720"/>
                <a:ext cx="23328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Group 38"/>
          <p:cNvGrpSpPr/>
          <p:nvPr/>
        </p:nvGrpSpPr>
        <p:grpSpPr>
          <a:xfrm>
            <a:off x="3487680" y="1692360"/>
            <a:ext cx="998640" cy="799920"/>
            <a:chOff x="3487680" y="1692360"/>
            <a:chExt cx="998640" cy="799920"/>
          </a:xfrm>
        </p:grpSpPr>
        <p:grpSp>
          <p:nvGrpSpPr>
            <p:cNvPr id="86" name="Group 31"/>
            <p:cNvGrpSpPr/>
            <p:nvPr/>
          </p:nvGrpSpPr>
          <p:grpSpPr>
            <a:xfrm>
              <a:off x="3754440" y="1692360"/>
              <a:ext cx="465120" cy="799920"/>
              <a:chOff x="3754440" y="1692360"/>
              <a:chExt cx="465120" cy="799920"/>
            </a:xfrm>
          </p:grpSpPr>
          <p:sp>
            <p:nvSpPr>
              <p:cNvPr id="87" name="Oval 29"/>
              <p:cNvSpPr/>
              <p:nvPr/>
            </p:nvSpPr>
            <p:spPr>
              <a:xfrm>
                <a:off x="3755880" y="1692360"/>
                <a:ext cx="463680" cy="46332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88" name="Oval 30"/>
              <p:cNvSpPr/>
              <p:nvPr/>
            </p:nvSpPr>
            <p:spPr>
              <a:xfrm>
                <a:off x="3754440" y="2028960"/>
                <a:ext cx="463680" cy="46332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34"/>
            <p:cNvGrpSpPr/>
            <p:nvPr/>
          </p:nvGrpSpPr>
          <p:grpSpPr>
            <a:xfrm>
              <a:off x="4251240" y="1827360"/>
              <a:ext cx="235080" cy="447480"/>
              <a:chOff x="4251240" y="1827360"/>
              <a:chExt cx="235080" cy="447480"/>
            </a:xfrm>
          </p:grpSpPr>
          <p:sp>
            <p:nvSpPr>
              <p:cNvPr id="90" name="Oval 32"/>
              <p:cNvSpPr/>
              <p:nvPr/>
            </p:nvSpPr>
            <p:spPr>
              <a:xfrm>
                <a:off x="4253040" y="1827360"/>
                <a:ext cx="23328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91" name="Oval 33"/>
              <p:cNvSpPr/>
              <p:nvPr/>
            </p:nvSpPr>
            <p:spPr>
              <a:xfrm>
                <a:off x="4251240" y="2041560"/>
                <a:ext cx="23328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37"/>
            <p:cNvGrpSpPr/>
            <p:nvPr/>
          </p:nvGrpSpPr>
          <p:grpSpPr>
            <a:xfrm>
              <a:off x="3487680" y="1895400"/>
              <a:ext cx="235080" cy="447840"/>
              <a:chOff x="3487680" y="1895400"/>
              <a:chExt cx="235080" cy="447840"/>
            </a:xfrm>
          </p:grpSpPr>
          <p:sp>
            <p:nvSpPr>
              <p:cNvPr id="93" name="Oval 35"/>
              <p:cNvSpPr/>
              <p:nvPr/>
            </p:nvSpPr>
            <p:spPr>
              <a:xfrm>
                <a:off x="3489480" y="1895400"/>
                <a:ext cx="23328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94" name="Oval 36"/>
              <p:cNvSpPr/>
              <p:nvPr/>
            </p:nvSpPr>
            <p:spPr>
              <a:xfrm>
                <a:off x="3487680" y="2109960"/>
                <a:ext cx="23328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Group 48"/>
          <p:cNvGrpSpPr/>
          <p:nvPr/>
        </p:nvGrpSpPr>
        <p:grpSpPr>
          <a:xfrm>
            <a:off x="4573440" y="974880"/>
            <a:ext cx="831960" cy="799920"/>
            <a:chOff x="4573440" y="974880"/>
            <a:chExt cx="831960" cy="799920"/>
          </a:xfrm>
        </p:grpSpPr>
        <p:grpSp>
          <p:nvGrpSpPr>
            <p:cNvPr id="96" name="Group 41"/>
            <p:cNvGrpSpPr/>
            <p:nvPr/>
          </p:nvGrpSpPr>
          <p:grpSpPr>
            <a:xfrm>
              <a:off x="4773600" y="974880"/>
              <a:ext cx="465120" cy="799920"/>
              <a:chOff x="4773600" y="974880"/>
              <a:chExt cx="465120" cy="799920"/>
            </a:xfrm>
          </p:grpSpPr>
          <p:sp>
            <p:nvSpPr>
              <p:cNvPr id="97" name="Oval 39"/>
              <p:cNvSpPr/>
              <p:nvPr/>
            </p:nvSpPr>
            <p:spPr>
              <a:xfrm>
                <a:off x="4775040" y="974880"/>
                <a:ext cx="463680" cy="46332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98" name="Oval 40"/>
              <p:cNvSpPr/>
              <p:nvPr/>
            </p:nvSpPr>
            <p:spPr>
              <a:xfrm>
                <a:off x="4773600" y="1311120"/>
                <a:ext cx="463680" cy="46368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44"/>
            <p:cNvGrpSpPr/>
            <p:nvPr/>
          </p:nvGrpSpPr>
          <p:grpSpPr>
            <a:xfrm>
              <a:off x="5170320" y="1143000"/>
              <a:ext cx="235080" cy="447840"/>
              <a:chOff x="5170320" y="1143000"/>
              <a:chExt cx="235080" cy="447840"/>
            </a:xfrm>
          </p:grpSpPr>
          <p:sp>
            <p:nvSpPr>
              <p:cNvPr id="100" name="Oval 42"/>
              <p:cNvSpPr/>
              <p:nvPr/>
            </p:nvSpPr>
            <p:spPr>
              <a:xfrm>
                <a:off x="5172120" y="1143000"/>
                <a:ext cx="23328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101" name="Oval 43"/>
              <p:cNvSpPr/>
              <p:nvPr/>
            </p:nvSpPr>
            <p:spPr>
              <a:xfrm>
                <a:off x="5170320" y="1357200"/>
                <a:ext cx="233640" cy="2336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47"/>
            <p:cNvGrpSpPr/>
            <p:nvPr/>
          </p:nvGrpSpPr>
          <p:grpSpPr>
            <a:xfrm>
              <a:off x="4573440" y="1128600"/>
              <a:ext cx="235080" cy="447840"/>
              <a:chOff x="4573440" y="1128600"/>
              <a:chExt cx="235080" cy="447840"/>
            </a:xfrm>
          </p:grpSpPr>
          <p:sp>
            <p:nvSpPr>
              <p:cNvPr id="103" name="Oval 45"/>
              <p:cNvSpPr/>
              <p:nvPr/>
            </p:nvSpPr>
            <p:spPr>
              <a:xfrm>
                <a:off x="4575240" y="1128600"/>
                <a:ext cx="233280" cy="2336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104" name="Oval 46"/>
              <p:cNvSpPr/>
              <p:nvPr/>
            </p:nvSpPr>
            <p:spPr>
              <a:xfrm>
                <a:off x="4573440" y="1343160"/>
                <a:ext cx="23364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Group 59"/>
          <p:cNvGrpSpPr/>
          <p:nvPr/>
        </p:nvGrpSpPr>
        <p:grpSpPr>
          <a:xfrm>
            <a:off x="6132600" y="1611360"/>
            <a:ext cx="801720" cy="938160"/>
            <a:chOff x="6132600" y="1611360"/>
            <a:chExt cx="801720" cy="938160"/>
          </a:xfrm>
        </p:grpSpPr>
        <p:grpSp>
          <p:nvGrpSpPr>
            <p:cNvPr id="106" name="Group 53"/>
            <p:cNvGrpSpPr/>
            <p:nvPr/>
          </p:nvGrpSpPr>
          <p:grpSpPr>
            <a:xfrm>
              <a:off x="6132600" y="1611360"/>
              <a:ext cx="801720" cy="463680"/>
              <a:chOff x="6132600" y="1611360"/>
              <a:chExt cx="801720" cy="463680"/>
            </a:xfrm>
          </p:grpSpPr>
          <p:sp>
            <p:nvSpPr>
              <p:cNvPr id="107" name="Oval 49"/>
              <p:cNvSpPr/>
              <p:nvPr/>
            </p:nvSpPr>
            <p:spPr>
              <a:xfrm>
                <a:off x="6300720" y="1611360"/>
                <a:ext cx="463680" cy="46368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108" name="Group 52"/>
              <p:cNvGrpSpPr/>
              <p:nvPr/>
            </p:nvGrpSpPr>
            <p:grpSpPr>
              <a:xfrm>
                <a:off x="6132600" y="1822320"/>
                <a:ext cx="801720" cy="233640"/>
                <a:chOff x="6132600" y="1822320"/>
                <a:chExt cx="801720" cy="233640"/>
              </a:xfrm>
            </p:grpSpPr>
            <p:sp>
              <p:nvSpPr>
                <p:cNvPr id="109" name="Oval 50"/>
                <p:cNvSpPr/>
                <p:nvPr/>
              </p:nvSpPr>
              <p:spPr>
                <a:xfrm>
                  <a:off x="6700680" y="1822320"/>
                  <a:ext cx="233640" cy="2336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10" name="Oval 51"/>
                <p:cNvSpPr/>
                <p:nvPr/>
              </p:nvSpPr>
              <p:spPr>
                <a:xfrm>
                  <a:off x="6132600" y="1822320"/>
                  <a:ext cx="233280" cy="2336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" name="Group 58"/>
            <p:cNvGrpSpPr/>
            <p:nvPr/>
          </p:nvGrpSpPr>
          <p:grpSpPr>
            <a:xfrm>
              <a:off x="6132600" y="2085840"/>
              <a:ext cx="801720" cy="463680"/>
              <a:chOff x="6132600" y="2085840"/>
              <a:chExt cx="801720" cy="463680"/>
            </a:xfrm>
          </p:grpSpPr>
          <p:sp>
            <p:nvSpPr>
              <p:cNvPr id="112" name="Oval 54"/>
              <p:cNvSpPr/>
              <p:nvPr/>
            </p:nvSpPr>
            <p:spPr>
              <a:xfrm>
                <a:off x="6300720" y="2085840"/>
                <a:ext cx="463680" cy="46368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113" name="Group 57"/>
              <p:cNvGrpSpPr/>
              <p:nvPr/>
            </p:nvGrpSpPr>
            <p:grpSpPr>
              <a:xfrm>
                <a:off x="6132600" y="2104920"/>
                <a:ext cx="801720" cy="233640"/>
                <a:chOff x="6132600" y="2104920"/>
                <a:chExt cx="801720" cy="233640"/>
              </a:xfrm>
            </p:grpSpPr>
            <p:sp>
              <p:nvSpPr>
                <p:cNvPr id="114" name="Oval 55"/>
                <p:cNvSpPr/>
                <p:nvPr/>
              </p:nvSpPr>
              <p:spPr>
                <a:xfrm>
                  <a:off x="6700680" y="2104920"/>
                  <a:ext cx="233640" cy="2336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15" name="Oval 56"/>
                <p:cNvSpPr/>
                <p:nvPr/>
              </p:nvSpPr>
              <p:spPr>
                <a:xfrm>
                  <a:off x="6132600" y="2104920"/>
                  <a:ext cx="233280" cy="2336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" name="Group 70"/>
          <p:cNvGrpSpPr/>
          <p:nvPr/>
        </p:nvGrpSpPr>
        <p:grpSpPr>
          <a:xfrm>
            <a:off x="6667560" y="3114720"/>
            <a:ext cx="801720" cy="988920"/>
            <a:chOff x="6667560" y="3114720"/>
            <a:chExt cx="801720" cy="988920"/>
          </a:xfrm>
        </p:grpSpPr>
        <p:grpSp>
          <p:nvGrpSpPr>
            <p:cNvPr id="117" name="Group 64"/>
            <p:cNvGrpSpPr/>
            <p:nvPr/>
          </p:nvGrpSpPr>
          <p:grpSpPr>
            <a:xfrm>
              <a:off x="6667560" y="3114720"/>
              <a:ext cx="801720" cy="463680"/>
              <a:chOff x="6667560" y="3114720"/>
              <a:chExt cx="801720" cy="463680"/>
            </a:xfrm>
          </p:grpSpPr>
          <p:sp>
            <p:nvSpPr>
              <p:cNvPr id="118" name="Oval 60"/>
              <p:cNvSpPr/>
              <p:nvPr/>
            </p:nvSpPr>
            <p:spPr>
              <a:xfrm>
                <a:off x="6835680" y="3114720"/>
                <a:ext cx="463680" cy="46368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119" name="Group 63"/>
              <p:cNvGrpSpPr/>
              <p:nvPr/>
            </p:nvGrpSpPr>
            <p:grpSpPr>
              <a:xfrm>
                <a:off x="6667560" y="3325680"/>
                <a:ext cx="801720" cy="233640"/>
                <a:chOff x="6667560" y="3325680"/>
                <a:chExt cx="801720" cy="233640"/>
              </a:xfrm>
            </p:grpSpPr>
            <p:sp>
              <p:nvSpPr>
                <p:cNvPr id="120" name="Oval 61"/>
                <p:cNvSpPr/>
                <p:nvPr/>
              </p:nvSpPr>
              <p:spPr>
                <a:xfrm>
                  <a:off x="7236000" y="3325680"/>
                  <a:ext cx="233280" cy="2336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21" name="Oval 62"/>
                <p:cNvSpPr/>
                <p:nvPr/>
              </p:nvSpPr>
              <p:spPr>
                <a:xfrm>
                  <a:off x="6667560" y="3325680"/>
                  <a:ext cx="233280" cy="2336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" name="Group 69"/>
            <p:cNvGrpSpPr/>
            <p:nvPr/>
          </p:nvGrpSpPr>
          <p:grpSpPr>
            <a:xfrm>
              <a:off x="6667560" y="3639960"/>
              <a:ext cx="801720" cy="463680"/>
              <a:chOff x="6667560" y="3639960"/>
              <a:chExt cx="801720" cy="463680"/>
            </a:xfrm>
          </p:grpSpPr>
          <p:sp>
            <p:nvSpPr>
              <p:cNvPr id="123" name="Oval 65"/>
              <p:cNvSpPr/>
              <p:nvPr/>
            </p:nvSpPr>
            <p:spPr>
              <a:xfrm>
                <a:off x="6835680" y="3639960"/>
                <a:ext cx="463680" cy="46368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124" name="Group 68"/>
              <p:cNvGrpSpPr/>
              <p:nvPr/>
            </p:nvGrpSpPr>
            <p:grpSpPr>
              <a:xfrm>
                <a:off x="6667560" y="3659040"/>
                <a:ext cx="801720" cy="233640"/>
                <a:chOff x="6667560" y="3659040"/>
                <a:chExt cx="801720" cy="233640"/>
              </a:xfrm>
            </p:grpSpPr>
            <p:sp>
              <p:nvSpPr>
                <p:cNvPr id="125" name="Oval 66"/>
                <p:cNvSpPr/>
                <p:nvPr/>
              </p:nvSpPr>
              <p:spPr>
                <a:xfrm>
                  <a:off x="7236000" y="3659040"/>
                  <a:ext cx="233280" cy="2336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26" name="Oval 67"/>
                <p:cNvSpPr/>
                <p:nvPr/>
              </p:nvSpPr>
              <p:spPr>
                <a:xfrm>
                  <a:off x="6667560" y="3659040"/>
                  <a:ext cx="233280" cy="2336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7" name="Group 81"/>
          <p:cNvGrpSpPr/>
          <p:nvPr/>
        </p:nvGrpSpPr>
        <p:grpSpPr>
          <a:xfrm>
            <a:off x="7232760" y="4451400"/>
            <a:ext cx="1298520" cy="907920"/>
            <a:chOff x="7232760" y="4451400"/>
            <a:chExt cx="1298520" cy="907920"/>
          </a:xfrm>
        </p:grpSpPr>
        <p:grpSp>
          <p:nvGrpSpPr>
            <p:cNvPr id="128" name="Group 75"/>
            <p:cNvGrpSpPr/>
            <p:nvPr/>
          </p:nvGrpSpPr>
          <p:grpSpPr>
            <a:xfrm>
              <a:off x="8067600" y="4451400"/>
              <a:ext cx="463680" cy="801720"/>
              <a:chOff x="8067600" y="4451400"/>
              <a:chExt cx="463680" cy="801720"/>
            </a:xfrm>
          </p:grpSpPr>
          <p:sp>
            <p:nvSpPr>
              <p:cNvPr id="129" name="Oval 71"/>
              <p:cNvSpPr/>
              <p:nvPr/>
            </p:nvSpPr>
            <p:spPr>
              <a:xfrm>
                <a:off x="8067600" y="4619520"/>
                <a:ext cx="463680" cy="46368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130" name="Group 74"/>
              <p:cNvGrpSpPr/>
              <p:nvPr/>
            </p:nvGrpSpPr>
            <p:grpSpPr>
              <a:xfrm>
                <a:off x="8278920" y="4451400"/>
                <a:ext cx="233280" cy="801720"/>
                <a:chOff x="8278920" y="4451400"/>
                <a:chExt cx="233280" cy="801720"/>
              </a:xfrm>
            </p:grpSpPr>
            <p:sp>
              <p:nvSpPr>
                <p:cNvPr id="131" name="Oval 72"/>
                <p:cNvSpPr/>
                <p:nvPr/>
              </p:nvSpPr>
              <p:spPr>
                <a:xfrm>
                  <a:off x="8278920" y="5019840"/>
                  <a:ext cx="233280" cy="23328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32" name="Oval 73"/>
                <p:cNvSpPr/>
                <p:nvPr/>
              </p:nvSpPr>
              <p:spPr>
                <a:xfrm>
                  <a:off x="8278920" y="4451400"/>
                  <a:ext cx="233280" cy="23328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80"/>
            <p:cNvGrpSpPr/>
            <p:nvPr/>
          </p:nvGrpSpPr>
          <p:grpSpPr>
            <a:xfrm>
              <a:off x="7232760" y="4557600"/>
              <a:ext cx="463320" cy="801720"/>
              <a:chOff x="7232760" y="4557600"/>
              <a:chExt cx="463320" cy="801720"/>
            </a:xfrm>
          </p:grpSpPr>
          <p:sp>
            <p:nvSpPr>
              <p:cNvPr id="134" name="Oval 76"/>
              <p:cNvSpPr/>
              <p:nvPr/>
            </p:nvSpPr>
            <p:spPr>
              <a:xfrm>
                <a:off x="7232760" y="4726080"/>
                <a:ext cx="463320" cy="46332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135" name="Group 79"/>
              <p:cNvGrpSpPr/>
              <p:nvPr/>
            </p:nvGrpSpPr>
            <p:grpSpPr>
              <a:xfrm>
                <a:off x="7443720" y="4557600"/>
                <a:ext cx="233280" cy="801720"/>
                <a:chOff x="7443720" y="4557600"/>
                <a:chExt cx="233280" cy="801720"/>
              </a:xfrm>
            </p:grpSpPr>
            <p:sp>
              <p:nvSpPr>
                <p:cNvPr id="136" name="Oval 77"/>
                <p:cNvSpPr/>
                <p:nvPr/>
              </p:nvSpPr>
              <p:spPr>
                <a:xfrm>
                  <a:off x="7443720" y="5126040"/>
                  <a:ext cx="233280" cy="23328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37" name="Oval 78"/>
                <p:cNvSpPr/>
                <p:nvPr/>
              </p:nvSpPr>
              <p:spPr>
                <a:xfrm>
                  <a:off x="7443720" y="4557600"/>
                  <a:ext cx="233280" cy="2336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ing Concentr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dd reactants (or increase their concentra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rward reaction will speed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roduct will 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ibrium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hifts to the ri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ant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ing Concentr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dd products (or increase their concentra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verse reaction will speed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reactant will 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ibrium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hifts to the lef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ant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ing Concentr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remove products (or decrease their concentra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verse reaction will slow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roduct will 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ibrium reverse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hifts to the ri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ant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ing Concentr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remove reactants (or decrease their concentra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rward reaction will slow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reactant will 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ibrium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hifts to the lef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ant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to control how much yield you get from a chemical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ing Temperatur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either require or release h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thermic reactions go faster at higher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thermic go faster at lower tempera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reversible reactions will be exothermic one way and endothermic the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ing Temperatur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raise the temperature the reaction proceeds in the endothermic dir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lower the temperature the reaction proceeds in the exothermic dir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ants + hea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ducts at high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ants + hea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ducts at low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(l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s) + h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Group 4"/>
          <p:cNvGrpSpPr/>
          <p:nvPr/>
        </p:nvGrpSpPr>
        <p:grpSpPr>
          <a:xfrm>
            <a:off x="2290680" y="4711680"/>
            <a:ext cx="932040" cy="329760"/>
            <a:chOff x="2290680" y="4711680"/>
            <a:chExt cx="932040" cy="329760"/>
          </a:xfrm>
        </p:grpSpPr>
        <p:sp>
          <p:nvSpPr>
            <p:cNvPr id="524" name="Freeform 5"/>
            <p:cNvSpPr/>
            <p:nvPr/>
          </p:nvSpPr>
          <p:spPr>
            <a:xfrm>
              <a:off x="2290680" y="4711680"/>
              <a:ext cx="932040" cy="11844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25" name="Freeform 6"/>
            <p:cNvSpPr/>
            <p:nvPr/>
          </p:nvSpPr>
          <p:spPr>
            <a:xfrm>
              <a:off x="2290680" y="4923000"/>
              <a:ext cx="932040" cy="11844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es in Pressur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pressure increases the reaction  will shift in the direction of the least g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pressure to  the side with the most g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2" dur="2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5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5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4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ree Ques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Fa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s on collisions and activation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ed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le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aly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Mechanism – ste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ree Ques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it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ly i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 is negative – exother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Or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 is positive – more dis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uaranteed if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Products – Reac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Or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G =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 -T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ree Ques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f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ibr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orward and reverse rates are eq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oncentration is con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quilibrium Consta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One for each temp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Châtelier’s 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087560" y="509760"/>
            <a:ext cx="7607160" cy="5397480"/>
          </a:xfrm>
          <a:prstGeom prst="rect">
            <a:avLst/>
          </a:prstGeom>
          <a:solidFill>
            <a:srgbClr val="b3b9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 rot="16200000">
            <a:off x="75600" y="388620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 flipV="1">
            <a:off x="838080" y="1828440"/>
            <a:ext cx="0" cy="1523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2886120" y="5853240"/>
            <a:ext cx="449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coordinat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Freeform 6"/>
          <p:cNvSpPr/>
          <p:nvPr/>
        </p:nvSpPr>
        <p:spPr>
          <a:xfrm>
            <a:off x="1373040" y="1692360"/>
            <a:ext cx="7164360" cy="3519360"/>
          </a:xfrm>
          <a:prstGeom prst="pie">
            <a:avLst/>
          </a:prstGeom>
          <a:noFill/>
          <a:ln cap="rnd" w="255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144440" y="3859200"/>
            <a:ext cx="231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6962760" y="5208480"/>
            <a:ext cx="2168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45" name="Group 18"/>
          <p:cNvGrpSpPr/>
          <p:nvPr/>
        </p:nvGrpSpPr>
        <p:grpSpPr>
          <a:xfrm>
            <a:off x="4591080" y="808200"/>
            <a:ext cx="831960" cy="799920"/>
            <a:chOff x="4591080" y="808200"/>
            <a:chExt cx="831960" cy="799920"/>
          </a:xfrm>
        </p:grpSpPr>
        <p:grpSp>
          <p:nvGrpSpPr>
            <p:cNvPr id="146" name="Group 11"/>
            <p:cNvGrpSpPr/>
            <p:nvPr/>
          </p:nvGrpSpPr>
          <p:grpSpPr>
            <a:xfrm>
              <a:off x="4791240" y="808200"/>
              <a:ext cx="465120" cy="799920"/>
              <a:chOff x="4791240" y="808200"/>
              <a:chExt cx="465120" cy="799920"/>
            </a:xfrm>
          </p:grpSpPr>
          <p:sp>
            <p:nvSpPr>
              <p:cNvPr id="147" name="Oval 9"/>
              <p:cNvSpPr/>
              <p:nvPr/>
            </p:nvSpPr>
            <p:spPr>
              <a:xfrm>
                <a:off x="4792680" y="808200"/>
                <a:ext cx="463680" cy="46332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148" name="Oval 10"/>
              <p:cNvSpPr/>
              <p:nvPr/>
            </p:nvSpPr>
            <p:spPr>
              <a:xfrm>
                <a:off x="4791240" y="1144440"/>
                <a:ext cx="463320" cy="46368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14"/>
            <p:cNvGrpSpPr/>
            <p:nvPr/>
          </p:nvGrpSpPr>
          <p:grpSpPr>
            <a:xfrm>
              <a:off x="5187960" y="976320"/>
              <a:ext cx="235080" cy="447840"/>
              <a:chOff x="5187960" y="976320"/>
              <a:chExt cx="235080" cy="447840"/>
            </a:xfrm>
          </p:grpSpPr>
          <p:sp>
            <p:nvSpPr>
              <p:cNvPr id="150" name="Oval 12"/>
              <p:cNvSpPr/>
              <p:nvPr/>
            </p:nvSpPr>
            <p:spPr>
              <a:xfrm>
                <a:off x="5189400" y="976320"/>
                <a:ext cx="23364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151" name="Oval 13"/>
              <p:cNvSpPr/>
              <p:nvPr/>
            </p:nvSpPr>
            <p:spPr>
              <a:xfrm>
                <a:off x="5187960" y="1190520"/>
                <a:ext cx="233280" cy="2336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7"/>
            <p:cNvGrpSpPr/>
            <p:nvPr/>
          </p:nvGrpSpPr>
          <p:grpSpPr>
            <a:xfrm>
              <a:off x="4591080" y="961920"/>
              <a:ext cx="235080" cy="447840"/>
              <a:chOff x="4591080" y="961920"/>
              <a:chExt cx="235080" cy="447840"/>
            </a:xfrm>
          </p:grpSpPr>
          <p:sp>
            <p:nvSpPr>
              <p:cNvPr id="153" name="Oval 15"/>
              <p:cNvSpPr/>
              <p:nvPr/>
            </p:nvSpPr>
            <p:spPr>
              <a:xfrm>
                <a:off x="4592520" y="961920"/>
                <a:ext cx="233640" cy="2336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154" name="Oval 16"/>
              <p:cNvSpPr/>
              <p:nvPr/>
            </p:nvSpPr>
            <p:spPr>
              <a:xfrm>
                <a:off x="4591080" y="1176480"/>
                <a:ext cx="233280" cy="2332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Line 19"/>
          <p:cNvSpPr/>
          <p:nvPr/>
        </p:nvSpPr>
        <p:spPr>
          <a:xfrm>
            <a:off x="4664160" y="3828960"/>
            <a:ext cx="72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Line 20"/>
          <p:cNvSpPr/>
          <p:nvPr/>
        </p:nvSpPr>
        <p:spPr>
          <a:xfrm>
            <a:off x="5002200" y="1692360"/>
            <a:ext cx="0" cy="212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5122800" y="1722600"/>
            <a:ext cx="3751200" cy="204228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ctivation Energy - Minimum energy to make the reaction happen – how har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50956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rmodynamic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a reaction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ces tend react to achieve the lowest energy 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hemical reactions are exotherm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n’t work for things like ice mel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ice cube must absorb heat to melt, but it melts  anyway. 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040" y="60480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ntrop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4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gree of randomness or dis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– number of ways things can be arra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Law of Thermodynamics - The energy of the universe is const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e Second Law of Thermodynamic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entropy of the universe increases in any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p a box of mar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your room for a wee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ntrop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1530360"/>
            <a:ext cx="225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ropy  of  a solid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3294000" y="1530360"/>
            <a:ext cx="21780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ropy  of  a liquid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6665760" y="1835280"/>
            <a:ext cx="22068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ropy  of a ga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44" name="Group 8"/>
          <p:cNvGrpSpPr/>
          <p:nvPr/>
        </p:nvGrpSpPr>
        <p:grpSpPr>
          <a:xfrm>
            <a:off x="2314440" y="1604880"/>
            <a:ext cx="914400" cy="1771560"/>
            <a:chOff x="2314440" y="1604880"/>
            <a:chExt cx="914400" cy="1771560"/>
          </a:xfrm>
        </p:grpSpPr>
        <p:sp>
          <p:nvSpPr>
            <p:cNvPr id="545" name="Line 6"/>
            <p:cNvSpPr/>
            <p:nvPr/>
          </p:nvSpPr>
          <p:spPr>
            <a:xfrm flipH="1">
              <a:off x="2314440" y="1604880"/>
              <a:ext cx="914400" cy="91440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46" name="Line 7"/>
            <p:cNvSpPr/>
            <p:nvPr/>
          </p:nvSpPr>
          <p:spPr>
            <a:xfrm>
              <a:off x="2314440" y="2462040"/>
              <a:ext cx="914400" cy="91440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547" name="Group 11"/>
          <p:cNvGrpSpPr/>
          <p:nvPr/>
        </p:nvGrpSpPr>
        <p:grpSpPr>
          <a:xfrm>
            <a:off x="5438880" y="1604880"/>
            <a:ext cx="914400" cy="1771560"/>
            <a:chOff x="5438880" y="1604880"/>
            <a:chExt cx="914400" cy="1771560"/>
          </a:xfrm>
        </p:grpSpPr>
        <p:sp>
          <p:nvSpPr>
            <p:cNvPr id="548" name="Line 9"/>
            <p:cNvSpPr/>
            <p:nvPr/>
          </p:nvSpPr>
          <p:spPr>
            <a:xfrm flipH="1">
              <a:off x="5438880" y="1604880"/>
              <a:ext cx="914400" cy="91440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49" name="Line 10"/>
            <p:cNvSpPr/>
            <p:nvPr/>
          </p:nvSpPr>
          <p:spPr>
            <a:xfrm>
              <a:off x="5438880" y="2462040"/>
              <a:ext cx="914400" cy="91440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550" name="Group 14"/>
          <p:cNvGrpSpPr/>
          <p:nvPr/>
        </p:nvGrpSpPr>
        <p:grpSpPr>
          <a:xfrm>
            <a:off x="6024600" y="1604880"/>
            <a:ext cx="914400" cy="1771560"/>
            <a:chOff x="6024600" y="1604880"/>
            <a:chExt cx="914400" cy="1771560"/>
          </a:xfrm>
        </p:grpSpPr>
        <p:sp>
          <p:nvSpPr>
            <p:cNvPr id="551" name="Line 12"/>
            <p:cNvSpPr/>
            <p:nvPr/>
          </p:nvSpPr>
          <p:spPr>
            <a:xfrm flipH="1">
              <a:off x="6024600" y="1604880"/>
              <a:ext cx="914400" cy="91440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52" name="Line 13"/>
            <p:cNvSpPr/>
            <p:nvPr/>
          </p:nvSpPr>
          <p:spPr>
            <a:xfrm>
              <a:off x="6024600" y="2462040"/>
              <a:ext cx="914400" cy="91440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3160" y="3643200"/>
            <a:ext cx="8001000" cy="26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olid has an orderly arrang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quid has the molecules next to each other but isn’t order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as has molecules moving all over the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3" dur="20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ntropy increases when...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of solids produce gases or liquids, or liquids produce g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ubstance is divided into parts -so reactions with more  products than reactants have an increase in entro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mperature is raised -because the random motion of the molecules is increa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ubstance is dissol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ntropy calcula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ables of standard entropy (pg 40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entropy is the entropy at 25ºC  and 1 atm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breviated Sº, measure in J/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ange in entropy for a reaction i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º= Sº(Products)-Sº(Reactant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º for this re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2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2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1" dur="2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20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533160" y="595440"/>
            <a:ext cx="8001000" cy="572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º for this re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2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2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º = 186.2 J/K-m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º = 205.0 J/K-m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º= 213.6 J/K-m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g) Sº = 188.7 J/K-m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50956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pontane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the reaction happen, and how can we make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pontaneous reac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that will happ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spontaneous reactions don’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if they do happen, we can’t say how f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factors influ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halpy (heat) and entropy(disord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32040" y="563400"/>
            <a:ext cx="716256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wo Factor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63320" y="1123920"/>
            <a:ext cx="82357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thermic reactions tend to be spontane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where the entropy of the products is greater than reactants tend to be spontane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ange with positiv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and negativ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is always spontane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ange with negativ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and positiv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is never spontane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133640" y="495360"/>
            <a:ext cx="7607160" cy="5397480"/>
          </a:xfrm>
          <a:prstGeom prst="rect">
            <a:avLst/>
          </a:prstGeom>
          <a:solidFill>
            <a:srgbClr val="b3b9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 rot="16200000">
            <a:off x="75600" y="388620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838080" y="1828440"/>
            <a:ext cx="0" cy="1523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2886120" y="5853240"/>
            <a:ext cx="449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coordinat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Freeform 6"/>
          <p:cNvSpPr/>
          <p:nvPr/>
        </p:nvSpPr>
        <p:spPr>
          <a:xfrm>
            <a:off x="1373040" y="1692360"/>
            <a:ext cx="7164360" cy="3519360"/>
          </a:xfrm>
          <a:prstGeom prst="pie">
            <a:avLst/>
          </a:prstGeom>
          <a:noFill/>
          <a:ln cap="rnd" w="255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1144440" y="3859200"/>
            <a:ext cx="231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6962760" y="5208480"/>
            <a:ext cx="2168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5" name="Group 11"/>
          <p:cNvGrpSpPr/>
          <p:nvPr/>
        </p:nvGrpSpPr>
        <p:grpSpPr>
          <a:xfrm>
            <a:off x="4791240" y="808200"/>
            <a:ext cx="465120" cy="799920"/>
            <a:chOff x="4791240" y="808200"/>
            <a:chExt cx="465120" cy="799920"/>
          </a:xfrm>
        </p:grpSpPr>
        <p:sp>
          <p:nvSpPr>
            <p:cNvPr id="166" name="Oval 9"/>
            <p:cNvSpPr/>
            <p:nvPr/>
          </p:nvSpPr>
          <p:spPr>
            <a:xfrm>
              <a:off x="4792680" y="808200"/>
              <a:ext cx="463680" cy="463320"/>
            </a:xfrm>
            <a:prstGeom prst="ellipse">
              <a:avLst/>
            </a:prstGeom>
            <a:solidFill>
              <a:srgbClr val="e844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4791240" y="1144440"/>
              <a:ext cx="463320" cy="463680"/>
            </a:xfrm>
            <a:prstGeom prst="ellipse">
              <a:avLst/>
            </a:prstGeom>
            <a:solidFill>
              <a:srgbClr val="e844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68" name="Group 14"/>
          <p:cNvGrpSpPr/>
          <p:nvPr/>
        </p:nvGrpSpPr>
        <p:grpSpPr>
          <a:xfrm>
            <a:off x="5187960" y="976320"/>
            <a:ext cx="235080" cy="447840"/>
            <a:chOff x="5187960" y="976320"/>
            <a:chExt cx="235080" cy="447840"/>
          </a:xfrm>
        </p:grpSpPr>
        <p:sp>
          <p:nvSpPr>
            <p:cNvPr id="169" name="Oval 12"/>
            <p:cNvSpPr/>
            <p:nvPr/>
          </p:nvSpPr>
          <p:spPr>
            <a:xfrm>
              <a:off x="5189400" y="976320"/>
              <a:ext cx="233640" cy="2332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0" name="Oval 13"/>
            <p:cNvSpPr/>
            <p:nvPr/>
          </p:nvSpPr>
          <p:spPr>
            <a:xfrm>
              <a:off x="5187960" y="1190520"/>
              <a:ext cx="233280" cy="2336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171" name="Group 17"/>
          <p:cNvGrpSpPr/>
          <p:nvPr/>
        </p:nvGrpSpPr>
        <p:grpSpPr>
          <a:xfrm>
            <a:off x="4591080" y="961920"/>
            <a:ext cx="235080" cy="447840"/>
            <a:chOff x="4591080" y="961920"/>
            <a:chExt cx="235080" cy="447840"/>
          </a:xfrm>
        </p:grpSpPr>
        <p:sp>
          <p:nvSpPr>
            <p:cNvPr id="172" name="Oval 15"/>
            <p:cNvSpPr/>
            <p:nvPr/>
          </p:nvSpPr>
          <p:spPr>
            <a:xfrm>
              <a:off x="4592520" y="961920"/>
              <a:ext cx="233640" cy="2336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173" name="Oval 16"/>
            <p:cNvSpPr/>
            <p:nvPr/>
          </p:nvSpPr>
          <p:spPr>
            <a:xfrm>
              <a:off x="4591080" y="1176480"/>
              <a:ext cx="233280" cy="2332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174" name="Rectangle 18"/>
          <p:cNvSpPr/>
          <p:nvPr/>
        </p:nvSpPr>
        <p:spPr>
          <a:xfrm>
            <a:off x="5721480" y="631800"/>
            <a:ext cx="30747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ated Complex or Transition Stat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Other Possibiliti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e affects entro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er temperature, higher entro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n exothermic reaction with a decrease in entropy (like rusting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taneous at low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spontaneous at high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halpy driv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Other Possibiliti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ndothermic reaction with an increase in entropy like melting 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taneous at high temperatu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spontaneous at low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ropy driv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Gibbs Free Energ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ergy free to do work is the change in Gibbs free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º - T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º (T must be in Kelv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pontaneous reactions release free energ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&lt;0 for a spontaneous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990720" y="528480"/>
            <a:ext cx="7162560" cy="6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G=</a:t>
            </a: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H-T</a:t>
            </a: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1888920" y="1225440"/>
            <a:ext cx="7275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1126440" y="1225440"/>
            <a:ext cx="7506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4176000" y="1149480"/>
            <a:ext cx="2803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pontaneous?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5" name="Line 6"/>
          <p:cNvSpPr/>
          <p:nvPr/>
        </p:nvSpPr>
        <p:spPr>
          <a:xfrm>
            <a:off x="609480" y="1676520"/>
            <a:ext cx="792504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1279080" y="1711440"/>
            <a:ext cx="370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77" name="Group 47"/>
          <p:cNvGrpSpPr/>
          <p:nvPr/>
        </p:nvGrpSpPr>
        <p:grpSpPr>
          <a:xfrm>
            <a:off x="2117520" y="1711440"/>
            <a:ext cx="1273320" cy="695520"/>
            <a:chOff x="2117520" y="1711440"/>
            <a:chExt cx="1273320" cy="695520"/>
          </a:xfrm>
        </p:grpSpPr>
        <p:sp>
          <p:nvSpPr>
            <p:cNvPr id="578" name="Rectangle 7"/>
            <p:cNvSpPr/>
            <p:nvPr/>
          </p:nvSpPr>
          <p:spPr>
            <a:xfrm>
              <a:off x="2117520" y="1711440"/>
              <a:ext cx="3708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endParaRPr b="0" lang="en-US" sz="44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79" name="Rectangle 9"/>
            <p:cNvSpPr/>
            <p:nvPr/>
          </p:nvSpPr>
          <p:spPr>
            <a:xfrm>
              <a:off x="2879640" y="1711440"/>
              <a:ext cx="5112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580" name="Group 13"/>
          <p:cNvGrpSpPr/>
          <p:nvPr/>
        </p:nvGrpSpPr>
        <p:grpSpPr>
          <a:xfrm>
            <a:off x="1828800" y="1219320"/>
            <a:ext cx="838080" cy="1157040"/>
            <a:chOff x="1828800" y="1219320"/>
            <a:chExt cx="838080" cy="1157040"/>
          </a:xfrm>
        </p:grpSpPr>
        <p:sp>
          <p:nvSpPr>
            <p:cNvPr id="581" name="Line 11"/>
            <p:cNvSpPr/>
            <p:nvPr/>
          </p:nvSpPr>
          <p:spPr>
            <a:xfrm>
              <a:off x="1828800" y="1219320"/>
              <a:ext cx="0" cy="11570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82" name="Line 12"/>
            <p:cNvSpPr/>
            <p:nvPr/>
          </p:nvSpPr>
          <p:spPr>
            <a:xfrm>
              <a:off x="2666880" y="1219320"/>
              <a:ext cx="0" cy="11570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583" name="Rectangle 15"/>
          <p:cNvSpPr/>
          <p:nvPr/>
        </p:nvSpPr>
        <p:spPr>
          <a:xfrm>
            <a:off x="4100040" y="1835280"/>
            <a:ext cx="37285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all Temperature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4" name="Rectangle 16"/>
          <p:cNvSpPr/>
          <p:nvPr/>
        </p:nvSpPr>
        <p:spPr>
          <a:xfrm>
            <a:off x="2651040" y="1225440"/>
            <a:ext cx="7048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5" name="Line 17"/>
          <p:cNvSpPr/>
          <p:nvPr/>
        </p:nvSpPr>
        <p:spPr>
          <a:xfrm>
            <a:off x="609480" y="2362320"/>
            <a:ext cx="792504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6" name="Rectangle 18"/>
          <p:cNvSpPr/>
          <p:nvPr/>
        </p:nvSpPr>
        <p:spPr>
          <a:xfrm>
            <a:off x="1279080" y="2689200"/>
            <a:ext cx="4960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87" name="Group 48"/>
          <p:cNvGrpSpPr/>
          <p:nvPr/>
        </p:nvGrpSpPr>
        <p:grpSpPr>
          <a:xfrm>
            <a:off x="2041560" y="2689200"/>
            <a:ext cx="1273320" cy="695520"/>
            <a:chOff x="2041560" y="2689200"/>
            <a:chExt cx="1273320" cy="695520"/>
          </a:xfrm>
        </p:grpSpPr>
        <p:sp>
          <p:nvSpPr>
            <p:cNvPr id="588" name="Rectangle 19"/>
            <p:cNvSpPr/>
            <p:nvPr/>
          </p:nvSpPr>
          <p:spPr>
            <a:xfrm>
              <a:off x="2041560" y="2689200"/>
              <a:ext cx="5112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89" name="Rectangle 20"/>
            <p:cNvSpPr/>
            <p:nvPr/>
          </p:nvSpPr>
          <p:spPr>
            <a:xfrm>
              <a:off x="2803680" y="2689200"/>
              <a:ext cx="5112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590" name="Group 24"/>
          <p:cNvGrpSpPr/>
          <p:nvPr/>
        </p:nvGrpSpPr>
        <p:grpSpPr>
          <a:xfrm>
            <a:off x="1827360" y="2274840"/>
            <a:ext cx="838080" cy="1376280"/>
            <a:chOff x="1827360" y="2274840"/>
            <a:chExt cx="838080" cy="1376280"/>
          </a:xfrm>
        </p:grpSpPr>
        <p:sp>
          <p:nvSpPr>
            <p:cNvPr id="591" name="Line 22"/>
            <p:cNvSpPr/>
            <p:nvPr/>
          </p:nvSpPr>
          <p:spPr>
            <a:xfrm>
              <a:off x="1827360" y="2274840"/>
              <a:ext cx="0" cy="13762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92" name="Line 23"/>
            <p:cNvSpPr/>
            <p:nvPr/>
          </p:nvSpPr>
          <p:spPr>
            <a:xfrm>
              <a:off x="2665440" y="2274840"/>
              <a:ext cx="0" cy="13762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593" name="Rectangle 26"/>
          <p:cNvSpPr/>
          <p:nvPr/>
        </p:nvSpPr>
        <p:spPr>
          <a:xfrm>
            <a:off x="3948120" y="2521080"/>
            <a:ext cx="417960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high temperatures,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ropy driven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4" name="Line 27"/>
          <p:cNvSpPr/>
          <p:nvPr/>
        </p:nvSpPr>
        <p:spPr>
          <a:xfrm>
            <a:off x="609480" y="3657600"/>
            <a:ext cx="792504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Rectangle 28"/>
          <p:cNvSpPr/>
          <p:nvPr/>
        </p:nvSpPr>
        <p:spPr>
          <a:xfrm>
            <a:off x="1279080" y="3984480"/>
            <a:ext cx="4960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96" name="Group 49"/>
          <p:cNvGrpSpPr/>
          <p:nvPr/>
        </p:nvGrpSpPr>
        <p:grpSpPr>
          <a:xfrm>
            <a:off x="2041200" y="3984480"/>
            <a:ext cx="1132920" cy="695520"/>
            <a:chOff x="2041200" y="3984480"/>
            <a:chExt cx="1132920" cy="695520"/>
          </a:xfrm>
        </p:grpSpPr>
        <p:sp>
          <p:nvSpPr>
            <p:cNvPr id="597" name="Rectangle 29"/>
            <p:cNvSpPr/>
            <p:nvPr/>
          </p:nvSpPr>
          <p:spPr>
            <a:xfrm>
              <a:off x="2041200" y="3984480"/>
              <a:ext cx="3708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endParaRPr b="0" lang="en-US" sz="44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98" name="Rectangle 30"/>
            <p:cNvSpPr/>
            <p:nvPr/>
          </p:nvSpPr>
          <p:spPr>
            <a:xfrm>
              <a:off x="2803320" y="3984480"/>
              <a:ext cx="3708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endParaRPr b="0" lang="en-US" sz="4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599" name="Group 34"/>
          <p:cNvGrpSpPr/>
          <p:nvPr/>
        </p:nvGrpSpPr>
        <p:grpSpPr>
          <a:xfrm>
            <a:off x="1828800" y="3581280"/>
            <a:ext cx="838080" cy="1428840"/>
            <a:chOff x="1828800" y="3581280"/>
            <a:chExt cx="838080" cy="1428840"/>
          </a:xfrm>
        </p:grpSpPr>
        <p:sp>
          <p:nvSpPr>
            <p:cNvPr id="600" name="Line 32"/>
            <p:cNvSpPr/>
            <p:nvPr/>
          </p:nvSpPr>
          <p:spPr>
            <a:xfrm>
              <a:off x="1828800" y="3581280"/>
              <a:ext cx="0" cy="1428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1" name="Line 33"/>
            <p:cNvSpPr/>
            <p:nvPr/>
          </p:nvSpPr>
          <p:spPr>
            <a:xfrm>
              <a:off x="2666880" y="3581280"/>
              <a:ext cx="0" cy="1428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602" name="Rectangle 36"/>
          <p:cNvSpPr/>
          <p:nvPr/>
        </p:nvSpPr>
        <p:spPr>
          <a:xfrm>
            <a:off x="3871080" y="3816360"/>
            <a:ext cx="402264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low temperatures,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halpy driven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3" name="Line 37"/>
          <p:cNvSpPr/>
          <p:nvPr/>
        </p:nvSpPr>
        <p:spPr>
          <a:xfrm>
            <a:off x="609480" y="5029200"/>
            <a:ext cx="792504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4" name="Rectangle 39"/>
          <p:cNvSpPr/>
          <p:nvPr/>
        </p:nvSpPr>
        <p:spPr>
          <a:xfrm>
            <a:off x="1279440" y="5203800"/>
            <a:ext cx="5112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05" name="Group 50"/>
          <p:cNvGrpSpPr/>
          <p:nvPr/>
        </p:nvGrpSpPr>
        <p:grpSpPr>
          <a:xfrm>
            <a:off x="2041560" y="5203800"/>
            <a:ext cx="1132560" cy="695520"/>
            <a:chOff x="2041560" y="5203800"/>
            <a:chExt cx="1132560" cy="695520"/>
          </a:xfrm>
        </p:grpSpPr>
        <p:sp>
          <p:nvSpPr>
            <p:cNvPr id="606" name="Rectangle 38"/>
            <p:cNvSpPr/>
            <p:nvPr/>
          </p:nvSpPr>
          <p:spPr>
            <a:xfrm>
              <a:off x="2041560" y="5203800"/>
              <a:ext cx="5112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07" name="Rectangle 40"/>
            <p:cNvSpPr/>
            <p:nvPr/>
          </p:nvSpPr>
          <p:spPr>
            <a:xfrm>
              <a:off x="2803320" y="5203800"/>
              <a:ext cx="3708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endParaRPr b="0" lang="en-US" sz="44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grpSp>
        <p:nvGrpSpPr>
          <p:cNvPr id="608" name="Group 44"/>
          <p:cNvGrpSpPr/>
          <p:nvPr/>
        </p:nvGrpSpPr>
        <p:grpSpPr>
          <a:xfrm>
            <a:off x="1828800" y="5022720"/>
            <a:ext cx="838080" cy="1157400"/>
            <a:chOff x="1828800" y="5022720"/>
            <a:chExt cx="838080" cy="1157400"/>
          </a:xfrm>
        </p:grpSpPr>
        <p:sp>
          <p:nvSpPr>
            <p:cNvPr id="609" name="Line 42"/>
            <p:cNvSpPr/>
            <p:nvPr/>
          </p:nvSpPr>
          <p:spPr>
            <a:xfrm>
              <a:off x="1828800" y="5022720"/>
              <a:ext cx="0" cy="115740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610" name="Line 43"/>
            <p:cNvSpPr/>
            <p:nvPr/>
          </p:nvSpPr>
          <p:spPr>
            <a:xfrm>
              <a:off x="2666880" y="5022720"/>
              <a:ext cx="0" cy="115740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611" name="Rectangle 46"/>
          <p:cNvSpPr/>
          <p:nvPr/>
        </p:nvSpPr>
        <p:spPr>
          <a:xfrm>
            <a:off x="3870360" y="5035680"/>
            <a:ext cx="4545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t any temperature,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erse is spontaneou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oblems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information on page 407 and pg 190 determine if the following changes are spontaneous at 25º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(g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l) + S(rhomb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73040" y="681120"/>
            <a:ext cx="809784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2H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S(g) + O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(g) </a:t>
            </a:r>
            <a:r>
              <a:rPr b="0" lang="en-US" sz="4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 2H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O(l) + 2S</a:t>
            </a:r>
            <a:endParaRPr b="0" lang="en-US" sz="4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74760" y="1599840"/>
            <a:ext cx="8477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Pg. 190 we fin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° for each com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= -20.1 k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0 k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= -285.8 k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= 0 k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Products - Reac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=2 (-285.8 kJ) + 2(0 kJ)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2 (-20.1 kJ) - 1(0 kJ) = -531.4 k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73040" y="681120"/>
            <a:ext cx="809784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2H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S(g) + O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(g) </a:t>
            </a:r>
            <a:r>
              <a:rPr b="0" lang="en-US" sz="4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 2H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O(l) + 2 S</a:t>
            </a:r>
            <a:endParaRPr b="0" lang="en-US" sz="4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74760" y="1599840"/>
            <a:ext cx="8477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Pg. 407 we find S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each com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= 205.6 J/K         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205.0 J/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= 69.94 J/K          S = 31.9 J/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Products - Reac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= 2 (69.94 J/K) + 2(31.9 J/K)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- 2(205.6 J/K) - 205 J/K = -412.5 J/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26680" y="681120"/>
            <a:ext cx="807876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2H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S(g) + O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(g) </a:t>
            </a:r>
            <a:r>
              <a:rPr b="0" lang="en-US" sz="4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 2H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O(l) + 2 S</a:t>
            </a:r>
            <a:endParaRPr b="0" lang="en-US" sz="4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- 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-531.4 kJ - 298K (-412.5 J/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-531.4 kJ - -123000 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-531.4 kJ - -123 k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-408.4 k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tane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rgonic- it releases free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what temperature does it become spontaneou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576360" y="2446200"/>
            <a:ext cx="7972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-531.4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k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-123000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pontaneou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becomes spontaneous whe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’s where it changes from positive to neg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0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- 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and solving for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 -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= - 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-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6845040" y="513252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1290 K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2484720" y="4956120"/>
            <a:ext cx="203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-531.4 kJ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412.5 J/K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4340520" y="4973760"/>
            <a:ext cx="237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-531400 J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412.5 J/K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47880" y="580680"/>
            <a:ext cx="716256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re’s Another Wa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50440" y="1204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ables of standard free energies of formation compounds.(pg 4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free energy change in making a compound from its elements at 25º C and 1 at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n elemen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them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roducts) -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reacta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2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9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2000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ctivation Energ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be supplied to start the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activation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collision are hard en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Activation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w collisions hard en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73040" y="681120"/>
            <a:ext cx="809784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2H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S(g) + O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(g) </a:t>
            </a:r>
            <a:r>
              <a:rPr b="0" lang="en-US" sz="4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 2H</a:t>
            </a:r>
            <a:r>
              <a:rPr b="0" lang="en-US" sz="4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O(l) + 2S</a:t>
            </a:r>
            <a:endParaRPr b="0" lang="en-US" sz="4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74760" y="1599840"/>
            <a:ext cx="8477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Pg. 414 we fin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° for each com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= -33.02 k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0 k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= -237.2 k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= 0 k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Products - Reac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2 (-237.2) + 2(0)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- 2 (-33.02) - 1(0) = -408.4 k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oes ice melt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following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s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(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° =6.03 kJ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° =22.1 J/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t what temperature does ice mel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action Mechanis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lementary reactio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reaction that happens in a single ste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Reaction mechan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description of how the reaction really happe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series of elementary re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of an elementary reaction is an intermedi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termedi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product that immediately gets used in the next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5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2"/>
          <p:cNvSpPr/>
          <p:nvPr/>
        </p:nvSpPr>
        <p:spPr>
          <a:xfrm>
            <a:off x="685800" y="45720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5" name="Freeform 3"/>
          <p:cNvSpPr/>
          <p:nvPr/>
        </p:nvSpPr>
        <p:spPr>
          <a:xfrm>
            <a:off x="958680" y="1047600"/>
            <a:ext cx="8033040" cy="3516480"/>
          </a:xfrm>
          <a:prstGeom prst="pie">
            <a:avLst/>
          </a:pr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533160" y="4554000"/>
            <a:ext cx="8001000" cy="177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8203"/>
              </a:buClr>
              <a:buSzPct val="75000"/>
              <a:buFont typeface="Animal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This reaction takes place in three st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7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528480" y="58572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8" name="Freeform 3"/>
          <p:cNvSpPr/>
          <p:nvPr/>
        </p:nvSpPr>
        <p:spPr>
          <a:xfrm>
            <a:off x="958680" y="1047600"/>
            <a:ext cx="8033040" cy="3516480"/>
          </a:xfrm>
          <a:prstGeom prst="pie">
            <a:avLst/>
          </a:pr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2716200" y="2311560"/>
            <a:ext cx="789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84400"/>
              </a:buClr>
              <a:buSzPct val="25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0" name="Line 5"/>
          <p:cNvSpPr/>
          <p:nvPr/>
        </p:nvSpPr>
        <p:spPr>
          <a:xfrm>
            <a:off x="3060720" y="2722680"/>
            <a:ext cx="0" cy="1182600"/>
          </a:xfrm>
          <a:prstGeom prst="line">
            <a:avLst/>
          </a:prstGeom>
          <a:ln w="25560">
            <a:solidFill>
              <a:srgbClr val="e84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3076560" y="2984400"/>
            <a:ext cx="853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Book Antiqua"/>
              </a:rPr>
              <a:t>a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1434600" y="4165560"/>
            <a:ext cx="7456680" cy="11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tep is 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activation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7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685800" y="45720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4" name="Freeform 3"/>
          <p:cNvSpPr/>
          <p:nvPr/>
        </p:nvSpPr>
        <p:spPr>
          <a:xfrm>
            <a:off x="958680" y="1047600"/>
            <a:ext cx="8033040" cy="3516480"/>
          </a:xfrm>
          <a:prstGeom prst="pie">
            <a:avLst/>
          </a:pr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1434960" y="4165560"/>
            <a:ext cx="7456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Second step is slow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High activation energy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6" name="Line 5"/>
          <p:cNvSpPr/>
          <p:nvPr/>
        </p:nvSpPr>
        <p:spPr>
          <a:xfrm>
            <a:off x="5622840" y="1063800"/>
            <a:ext cx="0" cy="2574720"/>
          </a:xfrm>
          <a:prstGeom prst="line">
            <a:avLst/>
          </a:prstGeom>
          <a:ln w="25560">
            <a:solidFill>
              <a:srgbClr val="e844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7" name="Rectangle 6"/>
          <p:cNvSpPr/>
          <p:nvPr/>
        </p:nvSpPr>
        <p:spPr>
          <a:xfrm>
            <a:off x="5589720" y="2147760"/>
            <a:ext cx="853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Book Antiqua"/>
              </a:rPr>
              <a:t>a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5237280" y="633240"/>
            <a:ext cx="78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84400"/>
              </a:buClr>
              <a:buSzPct val="25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442800" y="431640"/>
            <a:ext cx="8305920" cy="594072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0" name="Freeform 3"/>
          <p:cNvSpPr/>
          <p:nvPr/>
        </p:nvSpPr>
        <p:spPr>
          <a:xfrm>
            <a:off x="958680" y="1047600"/>
            <a:ext cx="8033040" cy="3516480"/>
          </a:xfrm>
          <a:prstGeom prst="pie">
            <a:avLst/>
          </a:pr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1" name="Line 4"/>
          <p:cNvSpPr/>
          <p:nvPr/>
        </p:nvSpPr>
        <p:spPr>
          <a:xfrm>
            <a:off x="7693200" y="2739960"/>
            <a:ext cx="0" cy="507960"/>
          </a:xfrm>
          <a:prstGeom prst="line">
            <a:avLst/>
          </a:prstGeom>
          <a:ln w="25560">
            <a:solidFill>
              <a:srgbClr val="e84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7658280" y="2689200"/>
            <a:ext cx="853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Book Antiqua"/>
              </a:rPr>
              <a:t>a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1434960" y="4165560"/>
            <a:ext cx="7456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Third step is fast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Low activation energy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7270920" y="2405160"/>
            <a:ext cx="78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84400"/>
              </a:buClr>
              <a:buSzPct val="335000"/>
              <a:buFont typeface="Webdings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542880" y="60012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6" name="Freeform 3"/>
          <p:cNvSpPr/>
          <p:nvPr/>
        </p:nvSpPr>
        <p:spPr>
          <a:xfrm>
            <a:off x="958680" y="1047600"/>
            <a:ext cx="8033040" cy="3516480"/>
          </a:xfrm>
          <a:prstGeom prst="pie">
            <a:avLst/>
          </a:pr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1434960" y="4086360"/>
            <a:ext cx="74566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In this case the second step is rate determining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It is slowest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Highest activation energy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2"/>
          <p:cNvSpPr/>
          <p:nvPr/>
        </p:nvSpPr>
        <p:spPr>
          <a:xfrm>
            <a:off x="685800" y="45720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9" name="Freeform 3"/>
          <p:cNvSpPr/>
          <p:nvPr/>
        </p:nvSpPr>
        <p:spPr>
          <a:xfrm>
            <a:off x="958680" y="1047600"/>
            <a:ext cx="8033040" cy="3516480"/>
          </a:xfrm>
          <a:prstGeom prst="pie">
            <a:avLst/>
          </a:pr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3086280" y="5315040"/>
            <a:ext cx="529416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Intermediates are present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1" name="Line 5"/>
          <p:cNvSpPr/>
          <p:nvPr/>
        </p:nvSpPr>
        <p:spPr>
          <a:xfrm>
            <a:off x="4325760" y="3675240"/>
            <a:ext cx="820800" cy="1576080"/>
          </a:xfrm>
          <a:prstGeom prst="line">
            <a:avLst/>
          </a:prstGeom>
          <a:ln w="50760">
            <a:solidFill>
              <a:srgbClr val="e844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2" name="Line 6"/>
          <p:cNvSpPr/>
          <p:nvPr/>
        </p:nvSpPr>
        <p:spPr>
          <a:xfrm flipH="1">
            <a:off x="5180040" y="3247920"/>
            <a:ext cx="1690560" cy="1987560"/>
          </a:xfrm>
          <a:prstGeom prst="line">
            <a:avLst/>
          </a:prstGeom>
          <a:ln w="50760">
            <a:solidFill>
              <a:srgbClr val="e844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685800" y="45720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4" name="Freeform 3"/>
          <p:cNvSpPr/>
          <p:nvPr/>
        </p:nvSpPr>
        <p:spPr>
          <a:xfrm>
            <a:off x="958680" y="1047600"/>
            <a:ext cx="8033040" cy="3516480"/>
          </a:xfrm>
          <a:prstGeom prst="pie">
            <a:avLst/>
          </a:pr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Rectangle 4"/>
          <p:cNvSpPr/>
          <p:nvPr/>
        </p:nvSpPr>
        <p:spPr>
          <a:xfrm>
            <a:off x="3411360" y="4202280"/>
            <a:ext cx="509616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Activated Complexes or Transition States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6" name="Line 5"/>
          <p:cNvSpPr/>
          <p:nvPr/>
        </p:nvSpPr>
        <p:spPr>
          <a:xfrm>
            <a:off x="3060720" y="2755800"/>
            <a:ext cx="920880" cy="1460520"/>
          </a:xfrm>
          <a:prstGeom prst="line">
            <a:avLst/>
          </a:prstGeom>
          <a:ln w="50760">
            <a:solidFill>
              <a:srgbClr val="e844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7" name="Line 6"/>
          <p:cNvSpPr/>
          <p:nvPr/>
        </p:nvSpPr>
        <p:spPr>
          <a:xfrm>
            <a:off x="5607000" y="1065240"/>
            <a:ext cx="14400" cy="3087720"/>
          </a:xfrm>
          <a:prstGeom prst="line">
            <a:avLst/>
          </a:prstGeom>
          <a:ln w="50760">
            <a:solidFill>
              <a:srgbClr val="e844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8" name="Line 7"/>
          <p:cNvSpPr/>
          <p:nvPr/>
        </p:nvSpPr>
        <p:spPr>
          <a:xfrm flipH="1">
            <a:off x="7248240" y="2755800"/>
            <a:ext cx="493560" cy="1478160"/>
          </a:xfrm>
          <a:prstGeom prst="line">
            <a:avLst/>
          </a:prstGeom>
          <a:ln w="50760">
            <a:solidFill>
              <a:srgbClr val="e844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ctivation energ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reaction is endothermic you must keep supplying h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t is exothermic it releases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energy can be used to supply the activation energy to those that fo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Mechanisms and rates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mediates are stable -they last for a littl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ated complexes do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n activation energy for each elementary ste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est step (rate determining) must have the highest activation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533160" y="579600"/>
            <a:ext cx="8055000" cy="57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chanism for the decomposition of hydrogen peroxide 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is the rate determining st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intermediat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tch the potential energy diagr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5699160" y="0"/>
            <a:ext cx="152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731880" y="1461960"/>
            <a:ext cx="7651800" cy="2063520"/>
            <a:chOff x="731880" y="1461960"/>
            <a:chExt cx="7651800" cy="2063520"/>
          </a:xfrm>
        </p:grpSpPr>
        <p:grpSp>
          <p:nvGrpSpPr>
            <p:cNvPr id="674" name="Group 5"/>
            <p:cNvGrpSpPr/>
            <p:nvPr/>
          </p:nvGrpSpPr>
          <p:grpSpPr>
            <a:xfrm>
              <a:off x="731880" y="1479600"/>
              <a:ext cx="5472000" cy="2045880"/>
              <a:chOff x="731880" y="1479600"/>
              <a:chExt cx="5472000" cy="2045880"/>
            </a:xfrm>
          </p:grpSpPr>
          <p:graphicFrame>
            <p:nvGraphicFramePr>
              <p:cNvPr id="675" name="Object 6"/>
              <p:cNvGraphicFramePr/>
              <p:nvPr/>
            </p:nvGraphicFramePr>
            <p:xfrm>
              <a:off x="1947600" y="1479600"/>
              <a:ext cx="3039840" cy="689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7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947600" y="1479600"/>
                        <a:ext cx="3039840" cy="689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77" name="Object 7"/>
              <p:cNvGraphicFramePr/>
              <p:nvPr/>
            </p:nvGraphicFramePr>
            <p:xfrm>
              <a:off x="731880" y="2159640"/>
              <a:ext cx="5472000" cy="686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78" name="Object 7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31880" y="2159640"/>
                        <a:ext cx="5472000" cy="68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79" name="Object 8"/>
              <p:cNvGraphicFramePr/>
              <p:nvPr/>
            </p:nvGraphicFramePr>
            <p:xfrm>
              <a:off x="995040" y="2836800"/>
              <a:ext cx="4945320" cy="688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80" name="Object 8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995040" y="2836800"/>
                        <a:ext cx="4945320" cy="688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681" name="Group 9"/>
            <p:cNvGrpSpPr/>
            <p:nvPr/>
          </p:nvGrpSpPr>
          <p:grpSpPr>
            <a:xfrm>
              <a:off x="6721560" y="1461960"/>
              <a:ext cx="1662120" cy="2026080"/>
              <a:chOff x="6721560" y="1461960"/>
              <a:chExt cx="1662120" cy="2026080"/>
            </a:xfrm>
          </p:grpSpPr>
          <p:sp>
            <p:nvSpPr>
              <p:cNvPr id="682" name="Text Box 10"/>
              <p:cNvSpPr/>
              <p:nvPr/>
            </p:nvSpPr>
            <p:spPr>
              <a:xfrm>
                <a:off x="6721560" y="1461960"/>
                <a:ext cx="16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afd00"/>
                    </a:solidFill>
                    <a:latin typeface="Times New Roman"/>
                  </a:rPr>
                  <a:t>Slow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683" name="Text Box 11"/>
              <p:cNvSpPr/>
              <p:nvPr/>
            </p:nvSpPr>
            <p:spPr>
              <a:xfrm>
                <a:off x="6721560" y="2208240"/>
                <a:ext cx="16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afd00"/>
                    </a:solidFill>
                    <a:latin typeface="Times New Roman"/>
                  </a:rPr>
                  <a:t>Fast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684" name="Text Box 12"/>
              <p:cNvSpPr/>
              <p:nvPr/>
            </p:nvSpPr>
            <p:spPr>
              <a:xfrm>
                <a:off x="6721560" y="2906640"/>
                <a:ext cx="16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afd00"/>
                    </a:solidFill>
                    <a:latin typeface="Times New Roman"/>
                  </a:rPr>
                  <a:t>Fast</a:t>
                </a:r>
                <a:endParaRPr b="0" lang="en-US" sz="32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103400" y="509760"/>
            <a:ext cx="7607160" cy="5397480"/>
          </a:xfrm>
          <a:prstGeom prst="rect">
            <a:avLst/>
          </a:prstGeom>
          <a:solidFill>
            <a:srgbClr val="b3b9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 rot="16200000">
            <a:off x="75600" y="388620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 flipV="1">
            <a:off x="838080" y="1828440"/>
            <a:ext cx="0" cy="1523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886120" y="5853240"/>
            <a:ext cx="449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coordinat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" name="Freeform 6"/>
          <p:cNvSpPr/>
          <p:nvPr/>
        </p:nvSpPr>
        <p:spPr>
          <a:xfrm>
            <a:off x="1373040" y="1692360"/>
            <a:ext cx="7164360" cy="3519360"/>
          </a:xfrm>
          <a:prstGeom prst="pie">
            <a:avLst/>
          </a:prstGeom>
          <a:noFill/>
          <a:ln cap="rnd" w="255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1144440" y="3859200"/>
            <a:ext cx="231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6962760" y="5208480"/>
            <a:ext cx="2168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5154480" y="3828960"/>
            <a:ext cx="69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5154480" y="5302080"/>
            <a:ext cx="69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" name="Line 11"/>
          <p:cNvSpPr/>
          <p:nvPr/>
        </p:nvSpPr>
        <p:spPr>
          <a:xfrm flipV="1">
            <a:off x="5500800" y="3843000"/>
            <a:ext cx="0" cy="146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2387520" y="4087800"/>
            <a:ext cx="2982960" cy="10674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Overall energy chang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0" name="Group 23"/>
          <p:cNvGrpSpPr/>
          <p:nvPr/>
        </p:nvGrpSpPr>
        <p:grpSpPr>
          <a:xfrm>
            <a:off x="7232760" y="4451400"/>
            <a:ext cx="1298520" cy="907920"/>
            <a:chOff x="7232760" y="4451400"/>
            <a:chExt cx="1298520" cy="907920"/>
          </a:xfrm>
        </p:grpSpPr>
        <p:grpSp>
          <p:nvGrpSpPr>
            <p:cNvPr id="191" name="Group 17"/>
            <p:cNvGrpSpPr/>
            <p:nvPr/>
          </p:nvGrpSpPr>
          <p:grpSpPr>
            <a:xfrm>
              <a:off x="8067600" y="4451400"/>
              <a:ext cx="463680" cy="801720"/>
              <a:chOff x="8067600" y="4451400"/>
              <a:chExt cx="463680" cy="801720"/>
            </a:xfrm>
          </p:grpSpPr>
          <p:sp>
            <p:nvSpPr>
              <p:cNvPr id="192" name="Oval 13"/>
              <p:cNvSpPr/>
              <p:nvPr/>
            </p:nvSpPr>
            <p:spPr>
              <a:xfrm>
                <a:off x="8067600" y="4619520"/>
                <a:ext cx="463680" cy="46368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193" name="Group 16"/>
              <p:cNvGrpSpPr/>
              <p:nvPr/>
            </p:nvGrpSpPr>
            <p:grpSpPr>
              <a:xfrm>
                <a:off x="8278920" y="4451400"/>
                <a:ext cx="233280" cy="801720"/>
                <a:chOff x="8278920" y="4451400"/>
                <a:chExt cx="233280" cy="801720"/>
              </a:xfrm>
            </p:grpSpPr>
            <p:sp>
              <p:nvSpPr>
                <p:cNvPr id="194" name="Oval 14"/>
                <p:cNvSpPr/>
                <p:nvPr/>
              </p:nvSpPr>
              <p:spPr>
                <a:xfrm>
                  <a:off x="8278920" y="5019840"/>
                  <a:ext cx="233280" cy="23328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15"/>
                <p:cNvSpPr/>
                <p:nvPr/>
              </p:nvSpPr>
              <p:spPr>
                <a:xfrm>
                  <a:off x="8278920" y="4451400"/>
                  <a:ext cx="233280" cy="23328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" name="Group 22"/>
            <p:cNvGrpSpPr/>
            <p:nvPr/>
          </p:nvGrpSpPr>
          <p:grpSpPr>
            <a:xfrm>
              <a:off x="7232760" y="4557600"/>
              <a:ext cx="463320" cy="801720"/>
              <a:chOff x="7232760" y="4557600"/>
              <a:chExt cx="463320" cy="801720"/>
            </a:xfrm>
          </p:grpSpPr>
          <p:sp>
            <p:nvSpPr>
              <p:cNvPr id="197" name="Oval 18"/>
              <p:cNvSpPr/>
              <p:nvPr/>
            </p:nvSpPr>
            <p:spPr>
              <a:xfrm>
                <a:off x="7232760" y="4726080"/>
                <a:ext cx="463320" cy="46332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grpSp>
            <p:nvGrpSpPr>
              <p:cNvPr id="198" name="Group 21"/>
              <p:cNvGrpSpPr/>
              <p:nvPr/>
            </p:nvGrpSpPr>
            <p:grpSpPr>
              <a:xfrm>
                <a:off x="7443720" y="4557600"/>
                <a:ext cx="233280" cy="801720"/>
                <a:chOff x="7443720" y="4557600"/>
                <a:chExt cx="233280" cy="801720"/>
              </a:xfrm>
            </p:grpSpPr>
            <p:sp>
              <p:nvSpPr>
                <p:cNvPr id="199" name="Oval 19"/>
                <p:cNvSpPr/>
                <p:nvPr/>
              </p:nvSpPr>
              <p:spPr>
                <a:xfrm>
                  <a:off x="7443720" y="5126040"/>
                  <a:ext cx="233280" cy="23328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20"/>
                <p:cNvSpPr/>
                <p:nvPr/>
              </p:nvSpPr>
              <p:spPr>
                <a:xfrm>
                  <a:off x="7443720" y="4557600"/>
                  <a:ext cx="233280" cy="2336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afd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1" name="Group 33"/>
          <p:cNvGrpSpPr/>
          <p:nvPr/>
        </p:nvGrpSpPr>
        <p:grpSpPr>
          <a:xfrm>
            <a:off x="1349280" y="2846520"/>
            <a:ext cx="1332000" cy="760320"/>
            <a:chOff x="1349280" y="2846520"/>
            <a:chExt cx="1332000" cy="760320"/>
          </a:xfrm>
        </p:grpSpPr>
        <p:grpSp>
          <p:nvGrpSpPr>
            <p:cNvPr id="202" name="Group 26"/>
            <p:cNvGrpSpPr/>
            <p:nvPr/>
          </p:nvGrpSpPr>
          <p:grpSpPr>
            <a:xfrm>
              <a:off x="1749600" y="2846520"/>
              <a:ext cx="465120" cy="760320"/>
              <a:chOff x="1749600" y="2846520"/>
              <a:chExt cx="465120" cy="760320"/>
            </a:xfrm>
          </p:grpSpPr>
          <p:sp>
            <p:nvSpPr>
              <p:cNvPr id="203" name="Oval 24"/>
              <p:cNvSpPr/>
              <p:nvPr/>
            </p:nvSpPr>
            <p:spPr>
              <a:xfrm>
                <a:off x="1751040" y="2846520"/>
                <a:ext cx="463680" cy="43956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04" name="Oval 25"/>
              <p:cNvSpPr/>
              <p:nvPr/>
            </p:nvSpPr>
            <p:spPr>
              <a:xfrm>
                <a:off x="1749600" y="3166920"/>
                <a:ext cx="463320" cy="439920"/>
              </a:xfrm>
              <a:prstGeom prst="ellipse">
                <a:avLst/>
              </a:prstGeom>
              <a:solidFill>
                <a:srgbClr val="e844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9"/>
            <p:cNvGrpSpPr/>
            <p:nvPr/>
          </p:nvGrpSpPr>
          <p:grpSpPr>
            <a:xfrm>
              <a:off x="2446200" y="3022560"/>
              <a:ext cx="235080" cy="425520"/>
              <a:chOff x="2446200" y="3022560"/>
              <a:chExt cx="235080" cy="425520"/>
            </a:xfrm>
          </p:grpSpPr>
          <p:sp>
            <p:nvSpPr>
              <p:cNvPr id="206" name="Oval 27"/>
              <p:cNvSpPr/>
              <p:nvPr/>
            </p:nvSpPr>
            <p:spPr>
              <a:xfrm>
                <a:off x="2448000" y="3022560"/>
                <a:ext cx="233280" cy="22212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07" name="Oval 28"/>
              <p:cNvSpPr/>
              <p:nvPr/>
            </p:nvSpPr>
            <p:spPr>
              <a:xfrm>
                <a:off x="2446200" y="3227400"/>
                <a:ext cx="233640" cy="220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32"/>
            <p:cNvGrpSpPr/>
            <p:nvPr/>
          </p:nvGrpSpPr>
          <p:grpSpPr>
            <a:xfrm>
              <a:off x="1349280" y="3040200"/>
              <a:ext cx="235080" cy="425160"/>
              <a:chOff x="1349280" y="3040200"/>
              <a:chExt cx="235080" cy="425160"/>
            </a:xfrm>
          </p:grpSpPr>
          <p:sp>
            <p:nvSpPr>
              <p:cNvPr id="209" name="Oval 30"/>
              <p:cNvSpPr/>
              <p:nvPr/>
            </p:nvSpPr>
            <p:spPr>
              <a:xfrm>
                <a:off x="1351080" y="3040200"/>
                <a:ext cx="233280" cy="220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  <p:sp>
            <p:nvSpPr>
              <p:cNvPr id="210" name="Oval 31"/>
              <p:cNvSpPr/>
              <p:nvPr/>
            </p:nvSpPr>
            <p:spPr>
              <a:xfrm>
                <a:off x="1349280" y="3243240"/>
                <a:ext cx="233280" cy="22212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afd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ings that Affect Rat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er temperature faster 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and harder coll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er Re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ncentrated molecules closer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ide more oft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er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08T20:03:10Z</dcterms:created>
  <dc:creator>Jill Luckey</dc:creator>
  <dc:description/>
  <dc:language>en-US</dc:language>
  <cp:lastModifiedBy>jluckey</cp:lastModifiedBy>
  <dcterms:modified xsi:type="dcterms:W3CDTF">2011-02-05T14:28:24Z</dcterms:modified>
  <cp:revision>44</cp:revision>
  <dc:subject/>
  <dc:title>Reaction Rate</dc:title>
</cp:coreProperties>
</file>